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DD30-C962-484B-9613-1D73868E4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89DB-2A8F-4F5A-8725-0BF41A6A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5116-BC91-4F89-BBF5-D956F8F1A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7BB9-2F1D-4D5E-931D-2A3C18408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F706-4606-4C4B-AB79-38A88D9FE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8E69-BAEE-4FE6-A994-CE62AA0F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A246-8B86-4A2C-9F63-56D32819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3A49-93E7-4B3A-83EB-867398C6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0B57-02D4-4647-8D87-83C3EECE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26C8-EA04-4AC1-B18E-5309FD8C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DDA9-559C-405B-9862-6AA27A10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8CDF-E48E-4637-949D-9DF905AC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FEC3-0098-48D9-A86B-EC4497E8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2C077-C888-4163-BB4F-72B221EB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103E-F73F-428F-A5BE-D601B0EF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F027-9E3C-4D0A-8B6C-38ED504D4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209C-88D5-40F8-A3EB-C93C6BBC1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D77EE-ADD7-451E-B8B5-9838162E9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E4662-D012-4495-BA7E-8B41F06C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0935E-020E-4B18-A380-698AD3C8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6C141-8648-4CD5-9E73-A37F2987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B4581-2646-410B-A94F-B9CA5B76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D572-A136-49EE-9E98-88E28A4F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CC878-1E5A-4952-8D2A-58D26F33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D090C-D9D4-4836-B05F-BF09F7DB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D934D-E5BF-4FA1-ACC6-552CEC0E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8276B-85D3-40CD-BA87-1CC8E9FD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61D35-A951-437C-B499-E7B37B17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4A64F-883A-4CAB-B999-378E72899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64888-625A-4DEB-B715-5E3E1F095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5725-6B63-42F1-B2E9-69F518C7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A3BA-C8DE-41DE-855E-43899E45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295A-76C2-4B45-90CF-2F4FEB82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0133-35FD-45E9-8191-160AABAE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E32C-55B8-4E89-9465-3C8F7A1A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DD1A-E5D7-4CC4-BB07-A2D92E53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5985-9EC3-4F42-907B-3818DDF437F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77EA-9DDD-4AB3-A9BE-EAB37DE199B2}" type="slidenum">
              <a:rPr b="1" lang="ru-RU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48F4-7956-4A42-B92F-9422226D7216}" type="slidenum">
              <a:rPr b="1" lang="ru-RU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57;&#1074;&#1086;&#1081;&#1089;&#1090;&#1074;&#1072;%20&#1087;&#1088;&#1077;&#1076;.%203.ppt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57;&#1074;&#1086;&#1081;&#1089;&#1090;&#1074;&#1072;%20&#1087;&#1088;&#1077;&#1076;.%203.ppt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57;&#1074;&#1086;&#1081;&#1089;&#1090;&#1074;&#1072;%20&#1087;&#1088;&#1077;&#1076;.%203.ppt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27640" y="2996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Производная</a:t>
            </a: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функци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м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4"/>
              <p:cNvSpPr txBox="1"/>
              <p:nvPr/>
            </p:nvSpPr>
            <p:spPr>
              <a:xfrm>
                <a:off x="1042920" y="1916280"/>
                <a:ext cx="2951280" cy="11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sin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u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e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u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tg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6"/>
              <p:cNvSpPr txBox="1"/>
              <p:nvPr/>
            </p:nvSpPr>
            <p:spPr>
              <a:xfrm>
                <a:off x="1042920" y="3213000"/>
                <a:ext cx="3664080" cy="15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e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lnsin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tg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nsin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ратная функц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редел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ываютс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заимно обратным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4"/>
              <p:cNvSpPr txBox="1"/>
              <p:nvPr/>
            </p:nvSpPr>
            <p:spPr>
              <a:xfrm>
                <a:off x="1476360" y="2205000"/>
                <a:ext cx="16556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Y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Y</m:t>
                        </m:r>
                        <m:r>
                          <m:t xml:space="preserve">→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6"/>
              <p:cNvSpPr txBox="1"/>
              <p:nvPr/>
            </p:nvSpPr>
            <p:spPr>
              <a:xfrm>
                <a:off x="1692360" y="2852640"/>
                <a:ext cx="19224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8"/>
              <p:cNvSpPr txBox="1"/>
              <p:nvPr/>
            </p:nvSpPr>
            <p:spPr>
              <a:xfrm>
                <a:off x="1476360" y="3429000"/>
                <a:ext cx="216072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всюду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9"/>
              <p:cNvSpPr txBox="1"/>
              <p:nvPr/>
            </p:nvSpPr>
            <p:spPr>
              <a:xfrm>
                <a:off x="1476360" y="3789360"/>
                <a:ext cx="200808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всюду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5" name="Text Box 12"/>
          <p:cNvSpPr/>
          <p:nvPr/>
        </p:nvSpPr>
        <p:spPr>
          <a:xfrm>
            <a:off x="6156360" y="4365720"/>
            <a:ext cx="27208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                   назыв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атной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                    назыв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атной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13"/>
              <p:cNvSpPr txBox="1"/>
              <p:nvPr/>
            </p:nvSpPr>
            <p:spPr>
              <a:xfrm>
                <a:off x="6877080" y="4005360"/>
                <a:ext cx="85572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14"/>
              <p:cNvSpPr txBox="1"/>
              <p:nvPr/>
            </p:nvSpPr>
            <p:spPr>
              <a:xfrm>
                <a:off x="7164360" y="4653000"/>
                <a:ext cx="7905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15"/>
              <p:cNvSpPr txBox="1"/>
              <p:nvPr/>
            </p:nvSpPr>
            <p:spPr>
              <a:xfrm>
                <a:off x="6877080" y="4869000"/>
                <a:ext cx="83808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16"/>
              <p:cNvSpPr txBox="1"/>
              <p:nvPr/>
            </p:nvSpPr>
            <p:spPr>
              <a:xfrm>
                <a:off x="7164360" y="4797360"/>
                <a:ext cx="7192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0" name="Text Box 19"/>
          <p:cNvSpPr/>
          <p:nvPr/>
        </p:nvSpPr>
        <p:spPr>
          <a:xfrm>
            <a:off x="493344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0"/>
          <p:cNvSpPr/>
          <p:nvPr/>
        </p:nvSpPr>
        <p:spPr>
          <a:xfrm>
            <a:off x="7094160" y="378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1"/>
          <p:cNvSpPr/>
          <p:nvPr/>
        </p:nvSpPr>
        <p:spPr>
          <a:xfrm>
            <a:off x="4933440" y="2205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46"/>
          <p:cNvGrpSpPr/>
          <p:nvPr/>
        </p:nvGrpSpPr>
        <p:grpSpPr>
          <a:xfrm>
            <a:off x="4716360" y="2276640"/>
            <a:ext cx="2449440" cy="2087280"/>
            <a:chOff x="4716360" y="2276640"/>
            <a:chExt cx="2449440" cy="2087280"/>
          </a:xfrm>
        </p:grpSpPr>
        <p:sp>
          <p:nvSpPr>
            <p:cNvPr id="384" name="Line 17"/>
            <p:cNvSpPr/>
            <p:nvPr/>
          </p:nvSpPr>
          <p:spPr>
            <a:xfrm flipV="1">
              <a:off x="5148360" y="2276640"/>
              <a:ext cx="0" cy="20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8"/>
            <p:cNvSpPr/>
            <p:nvPr/>
          </p:nvSpPr>
          <p:spPr>
            <a:xfrm>
              <a:off x="4716360" y="3860640"/>
              <a:ext cx="2449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rc 22"/>
            <p:cNvSpPr/>
            <p:nvPr/>
          </p:nvSpPr>
          <p:spPr>
            <a:xfrm flipV="1">
              <a:off x="5435640" y="2565360"/>
              <a:ext cx="1295280" cy="11527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360 h 1152720"/>
                <a:gd name="textAreaBottom" fmla="*/ 1153440 h 11527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23"/>
          <p:cNvSpPr/>
          <p:nvPr/>
        </p:nvSpPr>
        <p:spPr>
          <a:xfrm>
            <a:off x="4717800" y="3068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4"/>
          <p:cNvSpPr/>
          <p:nvPr/>
        </p:nvSpPr>
        <p:spPr>
          <a:xfrm>
            <a:off x="5148360" y="3716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5"/>
          <p:cNvSpPr/>
          <p:nvPr/>
        </p:nvSpPr>
        <p:spPr>
          <a:xfrm>
            <a:off x="5435640" y="37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6"/>
          <p:cNvSpPr/>
          <p:nvPr/>
        </p:nvSpPr>
        <p:spPr>
          <a:xfrm flipH="1">
            <a:off x="5148000" y="2565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7"/>
          <p:cNvSpPr/>
          <p:nvPr/>
        </p:nvSpPr>
        <p:spPr>
          <a:xfrm>
            <a:off x="6732720" y="2565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28"/>
          <p:cNvSpPr/>
          <p:nvPr/>
        </p:nvSpPr>
        <p:spPr>
          <a:xfrm>
            <a:off x="5003640" y="2565360"/>
            <a:ext cx="144720" cy="1150920"/>
          </a:xfrm>
          <a:custGeom>
            <a:avLst/>
            <a:gdLst>
              <a:gd name="textAreaLeft" fmla="*/ 92520 w 144720"/>
              <a:gd name="textAreaRight" fmla="*/ 145080 w 14472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29"/>
          <p:cNvSpPr/>
          <p:nvPr/>
        </p:nvSpPr>
        <p:spPr>
          <a:xfrm rot="16200000">
            <a:off x="6048360" y="3320640"/>
            <a:ext cx="71640" cy="1297080"/>
          </a:xfrm>
          <a:custGeom>
            <a:avLst/>
            <a:gdLst>
              <a:gd name="textAreaLeft" fmla="*/ 45720 w 71640"/>
              <a:gd name="textAreaRight" fmla="*/ 72000 w 7164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89"/>
                </a:lnTo>
                <a:cubicBezTo>
                  <a:pt x="10800" y="9989"/>
                  <a:pt x="5400" y="10889"/>
                  <a:pt x="0" y="10889"/>
                </a:cubicBezTo>
                <a:cubicBezTo>
                  <a:pt x="5400" y="10889"/>
                  <a:pt x="10800" y="11789"/>
                  <a:pt x="10800" y="1268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0"/>
          <p:cNvSpPr/>
          <p:nvPr/>
        </p:nvSpPr>
        <p:spPr>
          <a:xfrm>
            <a:off x="5941800" y="39337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31"/>
              <p:cNvSpPr txBox="1"/>
              <p:nvPr/>
            </p:nvSpPr>
            <p:spPr>
              <a:xfrm>
                <a:off x="4500720" y="3500280"/>
                <a:ext cx="622080" cy="2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32"/>
              <p:cNvSpPr txBox="1"/>
              <p:nvPr/>
            </p:nvSpPr>
            <p:spPr>
              <a:xfrm>
                <a:off x="6588000" y="3933720"/>
                <a:ext cx="648000" cy="2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33"/>
              <p:cNvSpPr txBox="1"/>
              <p:nvPr/>
            </p:nvSpPr>
            <p:spPr>
              <a:xfrm>
                <a:off x="5651640" y="3933720"/>
                <a:ext cx="1918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34"/>
              <p:cNvSpPr txBox="1"/>
              <p:nvPr/>
            </p:nvSpPr>
            <p:spPr>
              <a:xfrm>
                <a:off x="4932360" y="2924280"/>
                <a:ext cx="1936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Oval 35"/>
          <p:cNvSpPr/>
          <p:nvPr/>
        </p:nvSpPr>
        <p:spPr>
          <a:xfrm flipH="1" flipV="1">
            <a:off x="5723640" y="3823560"/>
            <a:ext cx="7164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36"/>
          <p:cNvSpPr/>
          <p:nvPr/>
        </p:nvSpPr>
        <p:spPr>
          <a:xfrm flipH="1" flipV="1">
            <a:off x="5723640" y="3644280"/>
            <a:ext cx="7164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37"/>
          <p:cNvSpPr/>
          <p:nvPr/>
        </p:nvSpPr>
        <p:spPr>
          <a:xfrm flipH="1" flipV="1">
            <a:off x="6587280" y="3823560"/>
            <a:ext cx="71640" cy="73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38"/>
          <p:cNvSpPr/>
          <p:nvPr/>
        </p:nvSpPr>
        <p:spPr>
          <a:xfrm flipH="1" flipV="1">
            <a:off x="6587280" y="2997360"/>
            <a:ext cx="7164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39"/>
          <p:cNvSpPr/>
          <p:nvPr/>
        </p:nvSpPr>
        <p:spPr>
          <a:xfrm flipV="1">
            <a:off x="5761080" y="37159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40"/>
          <p:cNvSpPr/>
          <p:nvPr/>
        </p:nvSpPr>
        <p:spPr>
          <a:xfrm flipH="1">
            <a:off x="5184360" y="3645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1"/>
          <p:cNvSpPr/>
          <p:nvPr/>
        </p:nvSpPr>
        <p:spPr>
          <a:xfrm flipH="1">
            <a:off x="5113440" y="299736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2"/>
          <p:cNvSpPr/>
          <p:nvPr/>
        </p:nvSpPr>
        <p:spPr>
          <a:xfrm flipH="1" flipV="1">
            <a:off x="5113440" y="3607560"/>
            <a:ext cx="71280" cy="73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43"/>
          <p:cNvSpPr/>
          <p:nvPr/>
        </p:nvSpPr>
        <p:spPr>
          <a:xfrm>
            <a:off x="5149800" y="3033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44"/>
          <p:cNvSpPr/>
          <p:nvPr/>
        </p:nvSpPr>
        <p:spPr>
          <a:xfrm>
            <a:off x="6621480" y="2997360"/>
            <a:ext cx="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5"/>
          <p:cNvSpPr/>
          <p:nvPr/>
        </p:nvSpPr>
        <p:spPr>
          <a:xfrm>
            <a:off x="3637800" y="4869000"/>
            <a:ext cx="166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фик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заимно обрат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й явля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дна и та же ли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47"/>
          <p:cNvGrpSpPr/>
          <p:nvPr/>
        </p:nvGrpSpPr>
        <p:grpSpPr>
          <a:xfrm>
            <a:off x="971640" y="4292640"/>
            <a:ext cx="2449440" cy="2087280"/>
            <a:chOff x="971640" y="4292640"/>
            <a:chExt cx="2449440" cy="2087280"/>
          </a:xfrm>
        </p:grpSpPr>
        <p:sp>
          <p:nvSpPr>
            <p:cNvPr id="411" name="Line 48"/>
            <p:cNvSpPr/>
            <p:nvPr/>
          </p:nvSpPr>
          <p:spPr>
            <a:xfrm flipV="1">
              <a:off x="1403640" y="4292640"/>
              <a:ext cx="0" cy="20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971640" y="5876640"/>
              <a:ext cx="2449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rc 50"/>
            <p:cNvSpPr/>
            <p:nvPr/>
          </p:nvSpPr>
          <p:spPr>
            <a:xfrm flipV="1">
              <a:off x="1690920" y="4581360"/>
              <a:ext cx="1295280" cy="11527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360 h 1152720"/>
                <a:gd name="textAreaBottom" fmla="*/ 1153440 h 11527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Text Box 51"/>
          <p:cNvSpPr/>
          <p:nvPr/>
        </p:nvSpPr>
        <p:spPr>
          <a:xfrm>
            <a:off x="1167840" y="5897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2"/>
          <p:cNvSpPr/>
          <p:nvPr/>
        </p:nvSpPr>
        <p:spPr>
          <a:xfrm>
            <a:off x="3349440" y="5805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53"/>
          <p:cNvSpPr/>
          <p:nvPr/>
        </p:nvSpPr>
        <p:spPr>
          <a:xfrm>
            <a:off x="1116000" y="4221000"/>
            <a:ext cx="2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55"/>
          <p:cNvSpPr/>
          <p:nvPr/>
        </p:nvSpPr>
        <p:spPr>
          <a:xfrm>
            <a:off x="1332000" y="5445000"/>
            <a:ext cx="7128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56"/>
          <p:cNvSpPr/>
          <p:nvPr/>
        </p:nvSpPr>
        <p:spPr>
          <a:xfrm>
            <a:off x="2411280" y="544500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57"/>
          <p:cNvSpPr/>
          <p:nvPr/>
        </p:nvSpPr>
        <p:spPr>
          <a:xfrm>
            <a:off x="2411280" y="5840280"/>
            <a:ext cx="7164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58"/>
          <p:cNvSpPr/>
          <p:nvPr/>
        </p:nvSpPr>
        <p:spPr>
          <a:xfrm flipV="1">
            <a:off x="2446200" y="55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59"/>
          <p:cNvSpPr/>
          <p:nvPr/>
        </p:nvSpPr>
        <p:spPr>
          <a:xfrm flipH="1">
            <a:off x="1403280" y="54799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60"/>
              <p:cNvSpPr txBox="1"/>
              <p:nvPr/>
            </p:nvSpPr>
            <p:spPr>
              <a:xfrm>
                <a:off x="1619280" y="5229360"/>
                <a:ext cx="62244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61"/>
              <p:cNvSpPr txBox="1"/>
              <p:nvPr/>
            </p:nvSpPr>
            <p:spPr>
              <a:xfrm>
                <a:off x="2411280" y="5877000"/>
                <a:ext cx="1922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4" name="Line 62"/>
          <p:cNvSpPr/>
          <p:nvPr/>
        </p:nvSpPr>
        <p:spPr>
          <a:xfrm>
            <a:off x="1403280" y="5516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63"/>
          <p:cNvSpPr/>
          <p:nvPr/>
        </p:nvSpPr>
        <p:spPr>
          <a:xfrm>
            <a:off x="2411280" y="551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64"/>
              <p:cNvSpPr txBox="1"/>
              <p:nvPr/>
            </p:nvSpPr>
            <p:spPr>
              <a:xfrm>
                <a:off x="1547640" y="5229360"/>
                <a:ext cx="5763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65"/>
              <p:cNvSpPr txBox="1"/>
              <p:nvPr/>
            </p:nvSpPr>
            <p:spPr>
              <a:xfrm>
                <a:off x="1187280" y="5373720"/>
                <a:ext cx="195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32"/>
          <p:cNvSpPr/>
          <p:nvPr/>
        </p:nvSpPr>
        <p:spPr>
          <a:xfrm>
            <a:off x="6588000" y="5661000"/>
            <a:ext cx="187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30"/>
          <p:cNvSpPr/>
          <p:nvPr/>
        </p:nvSpPr>
        <p:spPr>
          <a:xfrm>
            <a:off x="6516720" y="5084640"/>
            <a:ext cx="19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7"/>
          <p:cNvSpPr/>
          <p:nvPr/>
        </p:nvSpPr>
        <p:spPr>
          <a:xfrm>
            <a:off x="4356000" y="5229360"/>
            <a:ext cx="1152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7"/>
          <p:cNvSpPr/>
          <p:nvPr/>
        </p:nvSpPr>
        <p:spPr>
          <a:xfrm>
            <a:off x="5508720" y="1989000"/>
            <a:ext cx="2735280" cy="20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5"/>
          <p:cNvSpPr/>
          <p:nvPr/>
        </p:nvSpPr>
        <p:spPr>
          <a:xfrm>
            <a:off x="6443640" y="3284640"/>
            <a:ext cx="1368360" cy="576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9"/>
          <p:cNvSpPr/>
          <p:nvPr/>
        </p:nvSpPr>
        <p:spPr>
          <a:xfrm>
            <a:off x="755640" y="2205000"/>
            <a:ext cx="352908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1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изводная обратной функ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оре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ме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  формулы  11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Object 4"/>
              <p:cNvSpPr txBox="1"/>
              <p:nvPr/>
            </p:nvSpPr>
            <p:spPr>
              <a:xfrm>
                <a:off x="1042920" y="2205000"/>
                <a:ext cx="32036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непрерывна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 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6"/>
              <p:cNvSpPr txBox="1"/>
              <p:nvPr/>
            </p:nvSpPr>
            <p:spPr>
              <a:xfrm>
                <a:off x="1042920" y="2565360"/>
                <a:ext cx="331308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монотонна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 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8"/>
              <p:cNvSpPr txBox="1"/>
              <p:nvPr/>
            </p:nvSpPr>
            <p:spPr>
              <a:xfrm>
                <a:off x="1042920" y="2924280"/>
                <a:ext cx="322920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ри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11"/>
              <p:cNvSpPr txBox="1"/>
              <p:nvPr/>
            </p:nvSpPr>
            <p:spPr>
              <a:xfrm>
                <a:off x="5867280" y="2060640"/>
                <a:ext cx="225612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∃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обратная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к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12"/>
              <p:cNvSpPr txBox="1"/>
              <p:nvPr/>
            </p:nvSpPr>
            <p:spPr>
              <a:xfrm>
                <a:off x="5867280" y="2708280"/>
                <a:ext cx="23767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непрерывная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монотонная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13"/>
              <p:cNvSpPr txBox="1"/>
              <p:nvPr/>
            </p:nvSpPr>
            <p:spPr>
              <a:xfrm>
                <a:off x="6012000" y="3357720"/>
                <a:ext cx="446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sepChr m:val="∃"/>
                        <m:endChr m:val=")"/>
                      </m:dPr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14"/>
              <p:cNvSpPr txBox="1"/>
              <p:nvPr/>
            </p:nvSpPr>
            <p:spPr>
              <a:xfrm>
                <a:off x="6372360" y="3213000"/>
                <a:ext cx="13636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p>
                      <m:e>
                        <m:r>
                          <m:t xml:space="preserve">ϕ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3" name="Text Box 16"/>
          <p:cNvSpPr/>
          <p:nvPr/>
        </p:nvSpPr>
        <p:spPr>
          <a:xfrm>
            <a:off x="5580000" y="2060640"/>
            <a:ext cx="27370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18"/>
          <p:cNvSpPr/>
          <p:nvPr/>
        </p:nvSpPr>
        <p:spPr>
          <a:xfrm>
            <a:off x="4500720" y="2637000"/>
            <a:ext cx="792000" cy="215640"/>
          </a:xfrm>
          <a:prstGeom prst="rightArrow">
            <a:avLst>
              <a:gd name="adj1" fmla="val 50000"/>
              <a:gd name="adj2" fmla="val 918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20"/>
              <p:cNvSpPr txBox="1"/>
              <p:nvPr/>
            </p:nvSpPr>
            <p:spPr>
              <a:xfrm>
                <a:off x="826920" y="4149720"/>
                <a:ext cx="16621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csin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21"/>
              <p:cNvSpPr txBox="1"/>
              <p:nvPr/>
            </p:nvSpPr>
            <p:spPr>
              <a:xfrm>
                <a:off x="1042920" y="4797360"/>
                <a:ext cx="20163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x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22"/>
              <p:cNvSpPr txBox="1"/>
              <p:nvPr/>
            </p:nvSpPr>
            <p:spPr>
              <a:xfrm>
                <a:off x="1042920" y="5013360"/>
                <a:ext cx="24494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y</m:t>
                    </m:r>
                    <m:r>
                      <m:t xml:space="preserve">⇒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23"/>
              <p:cNvSpPr txBox="1"/>
              <p:nvPr/>
            </p:nvSpPr>
            <p:spPr>
              <a:xfrm>
                <a:off x="1042920" y="5589720"/>
                <a:ext cx="25210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9" name="AutoShape 24"/>
          <p:cNvSpPr/>
          <p:nvPr/>
        </p:nvSpPr>
        <p:spPr>
          <a:xfrm>
            <a:off x="3564000" y="5157720"/>
            <a:ext cx="71280" cy="792360"/>
          </a:xfrm>
          <a:custGeom>
            <a:avLst/>
            <a:gdLst>
              <a:gd name="textAreaLeft" fmla="*/ 0 w 71280"/>
              <a:gd name="textAreaRight" fmla="*/ 25560 w 7128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25"/>
          <p:cNvSpPr/>
          <p:nvPr/>
        </p:nvSpPr>
        <p:spPr>
          <a:xfrm>
            <a:off x="3780000" y="5445000"/>
            <a:ext cx="431640" cy="144720"/>
          </a:xfrm>
          <a:prstGeom prst="rightArrow">
            <a:avLst>
              <a:gd name="adj1" fmla="val 50000"/>
              <a:gd name="adj2" fmla="val 745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Object 26"/>
              <p:cNvSpPr txBox="1"/>
              <p:nvPr/>
            </p:nvSpPr>
            <p:spPr>
              <a:xfrm>
                <a:off x="4356000" y="5229360"/>
                <a:ext cx="10717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28"/>
              <p:cNvSpPr txBox="1"/>
              <p:nvPr/>
            </p:nvSpPr>
            <p:spPr>
              <a:xfrm>
                <a:off x="4521240" y="3346560"/>
                <a:ext cx="1015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29"/>
              <p:cNvSpPr txBox="1"/>
              <p:nvPr/>
            </p:nvSpPr>
            <p:spPr>
              <a:xfrm>
                <a:off x="6516720" y="5084640"/>
                <a:ext cx="19429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p>
                      <m:e>
                        <m:r>
                          <m:t xml:space="preserve">ϕ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⇒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ϕ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31"/>
              <p:cNvSpPr txBox="1"/>
              <p:nvPr/>
            </p:nvSpPr>
            <p:spPr>
              <a:xfrm>
                <a:off x="6588000" y="5589720"/>
                <a:ext cx="18003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y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y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1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ункции, заданные параметричес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ределение 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ят, чт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ункция задана параметричес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задана пара фун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рамет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м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6"/>
              <p:cNvSpPr txBox="1"/>
              <p:nvPr/>
            </p:nvSpPr>
            <p:spPr>
              <a:xfrm>
                <a:off x="1284120" y="2565360"/>
                <a:ext cx="182268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8"/>
              <p:cNvSpPr txBox="1"/>
              <p:nvPr/>
            </p:nvSpPr>
            <p:spPr>
              <a:xfrm>
                <a:off x="826920" y="3645000"/>
                <a:ext cx="20163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9" name="AutoShape 9"/>
          <p:cNvSpPr/>
          <p:nvPr/>
        </p:nvSpPr>
        <p:spPr>
          <a:xfrm>
            <a:off x="2916360" y="3933720"/>
            <a:ext cx="934920" cy="142920"/>
          </a:xfrm>
          <a:prstGeom prst="rightArrow">
            <a:avLst>
              <a:gd name="adj1" fmla="val 50000"/>
              <a:gd name="adj2" fmla="val 1635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0"/>
          <p:cNvSpPr/>
          <p:nvPr/>
        </p:nvSpPr>
        <p:spPr>
          <a:xfrm>
            <a:off x="3996360" y="342900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Object 11"/>
              <p:cNvSpPr txBox="1"/>
              <p:nvPr/>
            </p:nvSpPr>
            <p:spPr>
              <a:xfrm>
                <a:off x="4284720" y="3429000"/>
                <a:ext cx="20746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Функция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2" name="Text Box 12"/>
          <p:cNvSpPr/>
          <p:nvPr/>
        </p:nvSpPr>
        <p:spPr>
          <a:xfrm>
            <a:off x="4068000" y="422100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Object 13"/>
              <p:cNvSpPr txBox="1"/>
              <p:nvPr/>
            </p:nvSpPr>
            <p:spPr>
              <a:xfrm>
                <a:off x="4356000" y="4221000"/>
                <a:ext cx="2378160" cy="20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Функция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y</m:t>
                            </m:r>
                          </m:e>
                        </m:rad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y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]</m:t>
                        </m:r>
                        <m:r>
                          <m:t xml:space="preserve">⇒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y</m:t>
                            </m:r>
                          </m:e>
                        </m:rad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y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4" name="Text Box 18"/>
          <p:cNvSpPr/>
          <p:nvPr/>
        </p:nvSpPr>
        <p:spPr>
          <a:xfrm>
            <a:off x="7813440" y="2781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33"/>
          <p:cNvGrpSpPr/>
          <p:nvPr/>
        </p:nvGrpSpPr>
        <p:grpSpPr>
          <a:xfrm>
            <a:off x="7093080" y="2781360"/>
            <a:ext cx="1792440" cy="1728720"/>
            <a:chOff x="7093080" y="2781360"/>
            <a:chExt cx="1792440" cy="1728720"/>
          </a:xfrm>
        </p:grpSpPr>
        <p:sp>
          <p:nvSpPr>
            <p:cNvPr id="466" name="Line 14"/>
            <p:cNvSpPr/>
            <p:nvPr/>
          </p:nvSpPr>
          <p:spPr>
            <a:xfrm flipV="1">
              <a:off x="8101080" y="2997360"/>
              <a:ext cx="0" cy="151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5"/>
            <p:cNvSpPr/>
            <p:nvPr/>
          </p:nvSpPr>
          <p:spPr>
            <a:xfrm>
              <a:off x="7093080" y="4005360"/>
              <a:ext cx="165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16"/>
            <p:cNvSpPr/>
            <p:nvPr/>
          </p:nvSpPr>
          <p:spPr>
            <a:xfrm>
              <a:off x="7886520" y="4005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17"/>
            <p:cNvSpPr/>
            <p:nvPr/>
          </p:nvSpPr>
          <p:spPr>
            <a:xfrm>
              <a:off x="8605800" y="39337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rc 19"/>
            <p:cNvSpPr/>
            <p:nvPr/>
          </p:nvSpPr>
          <p:spPr>
            <a:xfrm flipV="1">
              <a:off x="7740720" y="2925720"/>
              <a:ext cx="649080" cy="107784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360 h 1077840"/>
                <a:gd name="textAreaBottom" fmla="*/ 1078560 h 1077840"/>
              </a:gdLst>
              <a:ahLst/>
              <a:rect l="textAreaLeft" t="textAreaTop" r="textAreaRight" b="textAreaBottom"/>
              <a:pathLst>
                <a:path fill="none" w="21600" h="21537">
                  <a:moveTo>
                    <a:pt x="1654" y="0"/>
                  </a:moveTo>
                  <a:cubicBezTo>
                    <a:pt x="12909" y="865"/>
                    <a:pt x="21600" y="10249"/>
                    <a:pt x="21600" y="21537"/>
                  </a:cubicBezTo>
                </a:path>
                <a:path stroke="0" w="21600" h="21537">
                  <a:moveTo>
                    <a:pt x="1654" y="0"/>
                  </a:moveTo>
                  <a:cubicBezTo>
                    <a:pt x="12909" y="865"/>
                    <a:pt x="21600" y="10249"/>
                    <a:pt x="21600" y="21537"/>
                  </a:cubicBezTo>
                  <a:lnTo>
                    <a:pt x="0" y="21537"/>
                  </a:lnTo>
                  <a:lnTo>
                    <a:pt x="1654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Arc 20"/>
            <p:cNvSpPr/>
            <p:nvPr/>
          </p:nvSpPr>
          <p:spPr>
            <a:xfrm flipH="1" flipV="1">
              <a:off x="7235280" y="2923560"/>
              <a:ext cx="649080" cy="1081080"/>
            </a:xfrm>
            <a:custGeom>
              <a:avLst/>
              <a:gdLst>
                <a:gd name="textAreaLeft" fmla="*/ -360 w 649080"/>
                <a:gd name="textAreaRight" fmla="*/ 649080 w 649080"/>
                <a:gd name="textAreaTop" fmla="*/ -360 h 1081080"/>
                <a:gd name="textAreaBottom" fmla="*/ 1081080 h 1081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21"/>
            <p:cNvSpPr/>
            <p:nvPr/>
          </p:nvSpPr>
          <p:spPr>
            <a:xfrm>
              <a:off x="7886520" y="35733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22"/>
            <p:cNvSpPr/>
            <p:nvPr/>
          </p:nvSpPr>
          <p:spPr>
            <a:xfrm>
              <a:off x="7597440" y="393372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4" name="Object 23"/>
                <p:cNvSpPr txBox="1"/>
                <p:nvPr/>
              </p:nvSpPr>
              <p:spPr>
                <a:xfrm>
                  <a:off x="7308720" y="2781360"/>
                  <a:ext cx="727200" cy="58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/>
                        <m:e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75" name="Arc 26"/>
          <p:cNvSpPr/>
          <p:nvPr/>
        </p:nvSpPr>
        <p:spPr>
          <a:xfrm flipH="1" flipV="1">
            <a:off x="6804000" y="4507920"/>
            <a:ext cx="649440" cy="1081080"/>
          </a:xfrm>
          <a:custGeom>
            <a:avLst/>
            <a:gdLst>
              <a:gd name="textAreaLeft" fmla="*/ 360 w 649440"/>
              <a:gd name="textAreaRight" fmla="*/ 650160 w 649440"/>
              <a:gd name="textAreaTop" fmla="*/ -360 h 1081080"/>
              <a:gd name="textAreaBottom" fmla="*/ 1081080 h 1081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rc 27"/>
          <p:cNvSpPr/>
          <p:nvPr/>
        </p:nvSpPr>
        <p:spPr>
          <a:xfrm flipV="1">
            <a:off x="7380360" y="4508640"/>
            <a:ext cx="649080" cy="1077840"/>
          </a:xfrm>
          <a:custGeom>
            <a:avLst/>
            <a:gdLst>
              <a:gd name="textAreaLeft" fmla="*/ 0 w 649080"/>
              <a:gd name="textAreaRight" fmla="*/ 649440 w 649080"/>
              <a:gd name="textAreaTop" fmla="*/ 360 h 1077840"/>
              <a:gd name="textAreaBottom" fmla="*/ 1078560 h 1077840"/>
            </a:gdLst>
            <a:ahLst/>
            <a:rect l="textAreaLeft" t="textAreaTop" r="textAreaRight" b="textAreaBottom"/>
            <a:pathLst>
              <a:path fill="none" w="21600" h="21537">
                <a:moveTo>
                  <a:pt x="1654" y="0"/>
                </a:moveTo>
                <a:cubicBezTo>
                  <a:pt x="12909" y="865"/>
                  <a:pt x="21600" y="10249"/>
                  <a:pt x="21600" y="21537"/>
                </a:cubicBezTo>
              </a:path>
              <a:path stroke="0" w="21600" h="21537">
                <a:moveTo>
                  <a:pt x="1654" y="0"/>
                </a:moveTo>
                <a:cubicBezTo>
                  <a:pt x="12909" y="865"/>
                  <a:pt x="21600" y="10249"/>
                  <a:pt x="21600" y="21537"/>
                </a:cubicBezTo>
                <a:lnTo>
                  <a:pt x="0" y="21537"/>
                </a:lnTo>
                <a:lnTo>
                  <a:pt x="1654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34"/>
          <p:cNvGrpSpPr/>
          <p:nvPr/>
        </p:nvGrpSpPr>
        <p:grpSpPr>
          <a:xfrm>
            <a:off x="6877080" y="4581360"/>
            <a:ext cx="1792440" cy="1655640"/>
            <a:chOff x="6877080" y="4581360"/>
            <a:chExt cx="1792440" cy="1655640"/>
          </a:xfrm>
        </p:grpSpPr>
        <p:sp>
          <p:nvSpPr>
            <p:cNvPr id="478" name="Line 24"/>
            <p:cNvSpPr/>
            <p:nvPr/>
          </p:nvSpPr>
          <p:spPr>
            <a:xfrm>
              <a:off x="6877080" y="5589720"/>
              <a:ext cx="165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25"/>
            <p:cNvSpPr/>
            <p:nvPr/>
          </p:nvSpPr>
          <p:spPr>
            <a:xfrm flipV="1">
              <a:off x="7740720" y="4723920"/>
              <a:ext cx="0" cy="151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28"/>
            <p:cNvSpPr/>
            <p:nvPr/>
          </p:nvSpPr>
          <p:spPr>
            <a:xfrm>
              <a:off x="7309800" y="551664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29"/>
            <p:cNvSpPr/>
            <p:nvPr/>
          </p:nvSpPr>
          <p:spPr>
            <a:xfrm>
              <a:off x="7526160" y="515772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30"/>
            <p:cNvSpPr/>
            <p:nvPr/>
          </p:nvSpPr>
          <p:spPr>
            <a:xfrm>
              <a:off x="7526160" y="55897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31"/>
            <p:cNvSpPr/>
            <p:nvPr/>
          </p:nvSpPr>
          <p:spPr>
            <a:xfrm>
              <a:off x="8389800" y="55166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32"/>
            <p:cNvSpPr/>
            <p:nvPr/>
          </p:nvSpPr>
          <p:spPr>
            <a:xfrm>
              <a:off x="7452720" y="45813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14"/>
          <p:cNvSpPr/>
          <p:nvPr/>
        </p:nvSpPr>
        <p:spPr>
          <a:xfrm>
            <a:off x="4572000" y="3213000"/>
            <a:ext cx="22320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1"/>
          <p:cNvSpPr/>
          <p:nvPr/>
        </p:nvSpPr>
        <p:spPr>
          <a:xfrm>
            <a:off x="755640" y="2349360"/>
            <a:ext cx="2879640" cy="29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 (1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изводная функции, заданной параметричес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оре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Object 4"/>
              <p:cNvSpPr txBox="1"/>
              <p:nvPr/>
            </p:nvSpPr>
            <p:spPr>
              <a:xfrm>
                <a:off x="1476360" y="2421000"/>
                <a:ext cx="20210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ϕ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6"/>
              <p:cNvSpPr txBox="1"/>
              <p:nvPr/>
            </p:nvSpPr>
            <p:spPr>
              <a:xfrm>
                <a:off x="1476360" y="3152880"/>
                <a:ext cx="20671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непрерывная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монотонная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а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Object 8"/>
              <p:cNvSpPr txBox="1"/>
              <p:nvPr/>
            </p:nvSpPr>
            <p:spPr>
              <a:xfrm>
                <a:off x="1476360" y="3645000"/>
                <a:ext cx="18716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∃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ϕ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ϕ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Object 9"/>
              <p:cNvSpPr txBox="1"/>
              <p:nvPr/>
            </p:nvSpPr>
            <p:spPr>
              <a:xfrm>
                <a:off x="1547640" y="4292640"/>
                <a:ext cx="19083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непрерывная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а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Object 10"/>
              <p:cNvSpPr txBox="1"/>
              <p:nvPr/>
            </p:nvSpPr>
            <p:spPr>
              <a:xfrm>
                <a:off x="1547640" y="4941720"/>
                <a:ext cx="79236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ψ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4" name="AutoShape 12"/>
          <p:cNvSpPr/>
          <p:nvPr/>
        </p:nvSpPr>
        <p:spPr>
          <a:xfrm>
            <a:off x="3708360" y="364500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Object 13"/>
              <p:cNvSpPr txBox="1"/>
              <p:nvPr/>
            </p:nvSpPr>
            <p:spPr>
              <a:xfrm>
                <a:off x="4716360" y="3284640"/>
                <a:ext cx="206856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чке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∃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ψ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ϕ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 (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изводные высших поряд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ределение 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ывается производ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вого поряд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у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ределение  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извод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производной первого поряд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изводной второго поряд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ределение  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из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т производной  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-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изводной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поряд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Object 4"/>
              <p:cNvSpPr txBox="1"/>
              <p:nvPr/>
            </p:nvSpPr>
            <p:spPr>
              <a:xfrm>
                <a:off x="1979640" y="2060640"/>
                <a:ext cx="10065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Object 6"/>
              <p:cNvSpPr txBox="1"/>
              <p:nvPr/>
            </p:nvSpPr>
            <p:spPr>
              <a:xfrm>
                <a:off x="2843280" y="2492280"/>
                <a:ext cx="9540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Object 8"/>
              <p:cNvSpPr txBox="1"/>
              <p:nvPr/>
            </p:nvSpPr>
            <p:spPr>
              <a:xfrm>
                <a:off x="1547640" y="3716280"/>
                <a:ext cx="235908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Object 9"/>
              <p:cNvSpPr txBox="1"/>
              <p:nvPr/>
            </p:nvSpPr>
            <p:spPr>
              <a:xfrm>
                <a:off x="1547640" y="5157720"/>
                <a:ext cx="28083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02" name="Line 10"/>
          <p:cNvSpPr/>
          <p:nvPr/>
        </p:nvSpPr>
        <p:spPr>
          <a:xfrm>
            <a:off x="4643280" y="306864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1"/>
          <p:cNvSpPr/>
          <p:nvPr/>
        </p:nvSpPr>
        <p:spPr>
          <a:xfrm>
            <a:off x="5056560" y="3211560"/>
            <a:ext cx="91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ме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Object 12"/>
              <p:cNvSpPr txBox="1"/>
              <p:nvPr/>
            </p:nvSpPr>
            <p:spPr>
              <a:xfrm>
                <a:off x="5219640" y="3429000"/>
                <a:ext cx="2720880" cy="15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⋯</m:t>
                        </m:r>
                        <m:r>
                          <m:t xml:space="preserve">⋯</m:t>
                        </m:r>
                        <m:r>
                          <m:t xml:space="preserve">⋯</m:t>
                        </m:r>
                        <m:r>
                          <m:t xml:space="preserve">⋯</m:t>
                        </m:r>
                        <m:r>
                          <m:t xml:space="preserve">⋯</m:t>
                        </m:r>
                        <m:r>
                          <m:t xml:space="preserve">⋯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18"/>
          <p:cNvSpPr/>
          <p:nvPr/>
        </p:nvSpPr>
        <p:spPr>
          <a:xfrm>
            <a:off x="3276720" y="5300640"/>
            <a:ext cx="29509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3635280" y="4724280"/>
            <a:ext cx="22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вязь между существованием производ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непрерывностью функ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оре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Object 5"/>
              <p:cNvSpPr txBox="1"/>
              <p:nvPr/>
            </p:nvSpPr>
            <p:spPr>
              <a:xfrm>
                <a:off x="1187280" y="2421000"/>
                <a:ext cx="324504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непрерывна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0" name="Text Box 4"/>
          <p:cNvSpPr/>
          <p:nvPr/>
        </p:nvSpPr>
        <p:spPr>
          <a:xfrm>
            <a:off x="1332000" y="2625840"/>
            <a:ext cx="503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Object 7"/>
              <p:cNvSpPr txBox="1"/>
              <p:nvPr/>
            </p:nvSpPr>
            <p:spPr>
              <a:xfrm>
                <a:off x="1258920" y="2997360"/>
                <a:ext cx="180036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Object 9"/>
              <p:cNvSpPr txBox="1"/>
              <p:nvPr/>
            </p:nvSpPr>
            <p:spPr>
              <a:xfrm>
                <a:off x="3635280" y="2997360"/>
                <a:ext cx="19828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Δх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3" name="AutoShape 10"/>
          <p:cNvSpPr/>
          <p:nvPr/>
        </p:nvSpPr>
        <p:spPr>
          <a:xfrm>
            <a:off x="3132000" y="321300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11">
            <a:hlinkClick r:id="rId1"/>
          </p:cNvPr>
          <p:cNvSpPr/>
          <p:nvPr/>
        </p:nvSpPr>
        <p:spPr>
          <a:xfrm>
            <a:off x="5724360" y="306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12"/>
              <p:cNvSpPr txBox="1"/>
              <p:nvPr/>
            </p:nvSpPr>
            <p:spPr>
              <a:xfrm>
                <a:off x="3635280" y="4076640"/>
                <a:ext cx="259236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Δx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6" name="AutoShape 13"/>
          <p:cNvSpPr/>
          <p:nvPr/>
        </p:nvSpPr>
        <p:spPr>
          <a:xfrm>
            <a:off x="4643280" y="3860640"/>
            <a:ext cx="144720" cy="216000"/>
          </a:xfrm>
          <a:prstGeom prst="downArrow">
            <a:avLst>
              <a:gd name="adj1" fmla="val 50000"/>
              <a:gd name="adj2" fmla="val 373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14"/>
              <p:cNvSpPr txBox="1"/>
              <p:nvPr/>
            </p:nvSpPr>
            <p:spPr>
              <a:xfrm>
                <a:off x="3708360" y="4724280"/>
                <a:ext cx="203832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ри</m:t>
                    </m:r>
                    <m:r>
                      <m:t xml:space="preserve"> </m:t>
                    </m:r>
                    <m:r>
                      <m:t xml:space="preserve">Δx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8" name="AutoShape 15"/>
          <p:cNvSpPr/>
          <p:nvPr/>
        </p:nvSpPr>
        <p:spPr>
          <a:xfrm>
            <a:off x="4643280" y="4437000"/>
            <a:ext cx="142920" cy="216000"/>
          </a:xfrm>
          <a:prstGeom prst="downArrow">
            <a:avLst>
              <a:gd name="adj1" fmla="val 50000"/>
              <a:gd name="adj2" fmla="val 377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17"/>
              <p:cNvSpPr txBox="1"/>
              <p:nvPr/>
            </p:nvSpPr>
            <p:spPr>
              <a:xfrm>
                <a:off x="3348000" y="5300640"/>
                <a:ext cx="27432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непрерывна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0" name="AutoShape 19"/>
          <p:cNvSpPr/>
          <p:nvPr/>
        </p:nvSpPr>
        <p:spPr>
          <a:xfrm>
            <a:off x="4643280" y="5084640"/>
            <a:ext cx="142920" cy="216000"/>
          </a:xfrm>
          <a:prstGeom prst="downArrow">
            <a:avLst>
              <a:gd name="adj1" fmla="val 50000"/>
              <a:gd name="adj2" fmla="val 377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20"/>
          <p:cNvSpPr/>
          <p:nvPr/>
        </p:nvSpPr>
        <p:spPr>
          <a:xfrm>
            <a:off x="6372360" y="5300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10800" y="1485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708">
                <a:moveTo>
                  <a:pt x="11905" y="14336"/>
                </a:moveTo>
                <a:lnTo>
                  <a:pt x="11905" y="12377"/>
                </a:lnTo>
                <a:cubicBezTo>
                  <a:pt x="11905" y="11550"/>
                  <a:pt x="12236" y="10854"/>
                  <a:pt x="12837" y="10854"/>
                </a:cubicBezTo>
                <a:cubicBezTo>
                  <a:pt x="13968" y="10854"/>
                  <a:pt x="14865" y="9488"/>
                  <a:pt x="14865" y="7904"/>
                </a:cubicBezTo>
                <a:cubicBezTo>
                  <a:pt x="14865" y="5588"/>
                  <a:pt x="13011" y="3848"/>
                  <a:pt x="10800" y="3848"/>
                </a:cubicBezTo>
                <a:cubicBezTo>
                  <a:pt x="8589" y="3848"/>
                  <a:pt x="6918" y="5588"/>
                  <a:pt x="6918" y="7904"/>
                </a:cubicBezTo>
                <a:lnTo>
                  <a:pt x="8772" y="7904"/>
                </a:lnTo>
                <a:cubicBezTo>
                  <a:pt x="8772" y="6763"/>
                  <a:pt x="9695" y="5876"/>
                  <a:pt x="10800" y="5876"/>
                </a:cubicBezTo>
                <a:cubicBezTo>
                  <a:pt x="11905" y="5876"/>
                  <a:pt x="12837" y="6763"/>
                  <a:pt x="12837" y="7904"/>
                </a:cubicBezTo>
                <a:cubicBezTo>
                  <a:pt x="12837" y="8643"/>
                  <a:pt x="12367" y="9375"/>
                  <a:pt x="11905" y="9375"/>
                </a:cubicBezTo>
                <a:cubicBezTo>
                  <a:pt x="10800" y="9375"/>
                  <a:pt x="9695" y="10854"/>
                  <a:pt x="9695" y="12377"/>
                </a:cubicBezTo>
                <a:lnTo>
                  <a:pt x="9695" y="1433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8289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язь между существованием производ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мечание.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тное утверждение теоремы неверно, т.е. из непрерывности функ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очке         не следует существование производной функции                    в этой точ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 функция непрерывна в точке             но в этой точке функция не имеет производной.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Object 5"/>
              <p:cNvSpPr txBox="1"/>
              <p:nvPr/>
            </p:nvSpPr>
            <p:spPr>
              <a:xfrm>
                <a:off x="6875640" y="1844640"/>
                <a:ext cx="1233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Object 9"/>
              <p:cNvSpPr txBox="1"/>
              <p:nvPr/>
            </p:nvSpPr>
            <p:spPr>
              <a:xfrm>
                <a:off x="2124000" y="2421000"/>
                <a:ext cx="3477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Object 10"/>
              <p:cNvSpPr txBox="1"/>
              <p:nvPr/>
            </p:nvSpPr>
            <p:spPr>
              <a:xfrm>
                <a:off x="2340000" y="2997360"/>
                <a:ext cx="1233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Object 11"/>
              <p:cNvSpPr txBox="1"/>
              <p:nvPr/>
            </p:nvSpPr>
            <p:spPr>
              <a:xfrm>
                <a:off x="2627280" y="3500280"/>
                <a:ext cx="32450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Object 12"/>
              <p:cNvSpPr txBox="1"/>
              <p:nvPr/>
            </p:nvSpPr>
            <p:spPr>
              <a:xfrm>
                <a:off x="5772240" y="4870440"/>
                <a:ext cx="8287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250560" y="764640"/>
            <a:ext cx="4537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йствительно, для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очке         име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9" name="Прямая со стрелкой 6"/>
          <p:cNvCxnSpPr/>
          <p:nvPr/>
        </p:nvCxnSpPr>
        <p:spPr>
          <a:xfrm flipV="1">
            <a:off x="6587640" y="691920"/>
            <a:ext cx="1080" cy="2808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30" name="Прямая со стрелкой 20"/>
          <p:cNvCxnSpPr/>
          <p:nvPr/>
        </p:nvCxnSpPr>
        <p:spPr>
          <a:xfrm>
            <a:off x="5003280" y="3284280"/>
            <a:ext cx="3745800" cy="10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531" name="Object 2"/>
              <p:cNvSpPr txBox="1"/>
              <p:nvPr/>
            </p:nvSpPr>
            <p:spPr>
              <a:xfrm>
                <a:off x="6588000" y="2997360"/>
                <a:ext cx="24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Object 3"/>
              <p:cNvSpPr txBox="1"/>
              <p:nvPr/>
            </p:nvSpPr>
            <p:spPr>
              <a:xfrm>
                <a:off x="8596440" y="3424320"/>
                <a:ext cx="26640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Object 4"/>
              <p:cNvSpPr txBox="1"/>
              <p:nvPr/>
            </p:nvSpPr>
            <p:spPr>
              <a:xfrm>
                <a:off x="6732720" y="620640"/>
                <a:ext cx="2934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4" name="Прямая соединительная линия 25"/>
          <p:cNvSpPr/>
          <p:nvPr/>
        </p:nvSpPr>
        <p:spPr>
          <a:xfrm flipV="1">
            <a:off x="6588000" y="1699920"/>
            <a:ext cx="1729080" cy="1584360"/>
          </a:xfrm>
          <a:prstGeom prst="line">
            <a:avLst/>
          </a:prstGeom>
          <a:ln w="1584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Прямая соединительная линия 27"/>
          <p:cNvSpPr/>
          <p:nvPr/>
        </p:nvSpPr>
        <p:spPr>
          <a:xfrm flipH="1" flipV="1">
            <a:off x="4932000" y="1557360"/>
            <a:ext cx="1655640" cy="1727280"/>
          </a:xfrm>
          <a:prstGeom prst="line">
            <a:avLst/>
          </a:prstGeom>
          <a:ln w="1584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11"/>
              <p:cNvSpPr txBox="1"/>
              <p:nvPr/>
            </p:nvSpPr>
            <p:spPr>
              <a:xfrm>
                <a:off x="7667640" y="1125360"/>
                <a:ext cx="8571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Object 7"/>
              <p:cNvSpPr txBox="1"/>
              <p:nvPr/>
            </p:nvSpPr>
            <p:spPr>
              <a:xfrm>
                <a:off x="395280" y="1484280"/>
                <a:ext cx="8571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Object 9"/>
              <p:cNvSpPr txBox="1"/>
              <p:nvPr/>
            </p:nvSpPr>
            <p:spPr>
              <a:xfrm>
                <a:off x="2700360" y="1484280"/>
                <a:ext cx="3477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Object 9"/>
              <p:cNvSpPr txBox="1"/>
              <p:nvPr/>
            </p:nvSpPr>
            <p:spPr>
              <a:xfrm>
                <a:off x="250920" y="2781360"/>
                <a:ext cx="4068720" cy="23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r>
                              <m:t xml:space="preserve">Δ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Δx</m:t>
                                </m:r>
                              </m:e>
                            </m:d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Δx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Object 11"/>
              <p:cNvSpPr txBox="1"/>
              <p:nvPr/>
            </p:nvSpPr>
            <p:spPr>
              <a:xfrm>
                <a:off x="4788000" y="3933720"/>
                <a:ext cx="2457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1" name="TextBox 37"/>
          <p:cNvSpPr/>
          <p:nvPr/>
        </p:nvSpPr>
        <p:spPr>
          <a:xfrm>
            <a:off x="4716360" y="467676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уществу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е. функция не имеет производную в этой точк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Стрелка вправо 38"/>
          <p:cNvSpPr/>
          <p:nvPr/>
        </p:nvSpPr>
        <p:spPr>
          <a:xfrm>
            <a:off x="7020000" y="4797360"/>
            <a:ext cx="504720" cy="21600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219640" y="2637000"/>
            <a:ext cx="338472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900000" y="2708280"/>
            <a:ext cx="208764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ункция              определена в некоторой окрестности точки         (включая точку       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ределение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ределение 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сательно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ямой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к графику функ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точке      называется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ельное положение секущ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, ког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6"/>
              <p:cNvSpPr txBox="1"/>
              <p:nvPr/>
            </p:nvSpPr>
            <p:spPr>
              <a:xfrm>
                <a:off x="2195640" y="1628640"/>
                <a:ext cx="6476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7"/>
              <p:cNvSpPr txBox="1"/>
              <p:nvPr/>
            </p:nvSpPr>
            <p:spPr>
              <a:xfrm>
                <a:off x="2411280" y="1989000"/>
                <a:ext cx="3207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8"/>
              <p:cNvSpPr txBox="1"/>
              <p:nvPr/>
            </p:nvSpPr>
            <p:spPr>
              <a:xfrm>
                <a:off x="4067280" y="1989000"/>
                <a:ext cx="3204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9"/>
              <p:cNvSpPr txBox="1"/>
              <p:nvPr/>
            </p:nvSpPr>
            <p:spPr>
              <a:xfrm>
                <a:off x="900000" y="2637000"/>
                <a:ext cx="21351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5" name="Text Box 10"/>
          <p:cNvSpPr/>
          <p:nvPr/>
        </p:nvSpPr>
        <p:spPr>
          <a:xfrm>
            <a:off x="5271840" y="2657520"/>
            <a:ext cx="331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ной функции           называе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 отношени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ращения фу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ращению аргумен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ог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ращение аргумен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тремится к ну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1"/>
              <p:cNvSpPr txBox="1"/>
              <p:nvPr/>
            </p:nvSpPr>
            <p:spPr>
              <a:xfrm>
                <a:off x="6948360" y="2637000"/>
                <a:ext cx="50508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AutoShape 12"/>
          <p:cNvSpPr/>
          <p:nvPr/>
        </p:nvSpPr>
        <p:spPr>
          <a:xfrm>
            <a:off x="3419640" y="2997360"/>
            <a:ext cx="1584000" cy="215640"/>
          </a:xfrm>
          <a:prstGeom prst="leftArrow">
            <a:avLst>
              <a:gd name="adj1" fmla="val 50000"/>
              <a:gd name="adj2" fmla="val 1836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3"/>
              <p:cNvSpPr txBox="1"/>
              <p:nvPr/>
            </p:nvSpPr>
            <p:spPr>
              <a:xfrm>
                <a:off x="900000" y="4149720"/>
                <a:ext cx="10908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14"/>
              <p:cNvSpPr txBox="1"/>
              <p:nvPr/>
            </p:nvSpPr>
            <p:spPr>
              <a:xfrm>
                <a:off x="4521240" y="3346560"/>
                <a:ext cx="1015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5"/>
              <p:cNvSpPr txBox="1"/>
              <p:nvPr/>
            </p:nvSpPr>
            <p:spPr>
              <a:xfrm>
                <a:off x="2627280" y="4149720"/>
                <a:ext cx="339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6"/>
              <p:cNvSpPr txBox="1"/>
              <p:nvPr/>
            </p:nvSpPr>
            <p:spPr>
              <a:xfrm>
                <a:off x="2771640" y="4437000"/>
                <a:ext cx="64800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7"/>
              <p:cNvSpPr txBox="1"/>
              <p:nvPr/>
            </p:nvSpPr>
            <p:spPr>
              <a:xfrm>
                <a:off x="3924360" y="4437000"/>
                <a:ext cx="10080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" name="Text Box 18"/>
          <p:cNvSpPr/>
          <p:nvPr/>
        </p:nvSpPr>
        <p:spPr>
          <a:xfrm>
            <a:off x="8605440" y="551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5868360" y="3619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0"/>
          <p:cNvSpPr/>
          <p:nvPr/>
        </p:nvSpPr>
        <p:spPr>
          <a:xfrm>
            <a:off x="5941800" y="5516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1"/>
          <p:cNvSpPr/>
          <p:nvPr/>
        </p:nvSpPr>
        <p:spPr>
          <a:xfrm flipV="1">
            <a:off x="6372360" y="3644640"/>
            <a:ext cx="936360" cy="18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22"/>
          <p:cNvSpPr/>
          <p:nvPr/>
        </p:nvSpPr>
        <p:spPr>
          <a:xfrm>
            <a:off x="6659640" y="4797360"/>
            <a:ext cx="712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23"/>
          <p:cNvSpPr/>
          <p:nvPr/>
        </p:nvSpPr>
        <p:spPr>
          <a:xfrm flipV="1">
            <a:off x="7524720" y="407592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4"/>
          <p:cNvSpPr/>
          <p:nvPr/>
        </p:nvSpPr>
        <p:spPr>
          <a:xfrm>
            <a:off x="7310880" y="38606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25"/>
          <p:cNvSpPr/>
          <p:nvPr/>
        </p:nvSpPr>
        <p:spPr>
          <a:xfrm flipV="1">
            <a:off x="7885080" y="4075920"/>
            <a:ext cx="71640" cy="4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6"/>
          <p:cNvSpPr/>
          <p:nvPr/>
        </p:nvSpPr>
        <p:spPr>
          <a:xfrm>
            <a:off x="7814160" y="378936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27"/>
              <p:cNvSpPr txBox="1"/>
              <p:nvPr/>
            </p:nvSpPr>
            <p:spPr>
              <a:xfrm>
                <a:off x="6443640" y="4508640"/>
                <a:ext cx="3049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3" name="Line 28"/>
          <p:cNvSpPr/>
          <p:nvPr/>
        </p:nvSpPr>
        <p:spPr>
          <a:xfrm flipV="1">
            <a:off x="6156360" y="3716280"/>
            <a:ext cx="0" cy="216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9"/>
          <p:cNvSpPr/>
          <p:nvPr/>
        </p:nvSpPr>
        <p:spPr>
          <a:xfrm>
            <a:off x="5219640" y="5516640"/>
            <a:ext cx="3456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rc 30"/>
          <p:cNvSpPr/>
          <p:nvPr/>
        </p:nvSpPr>
        <p:spPr>
          <a:xfrm flipH="1" flipV="1" rot="6492600">
            <a:off x="6671160" y="4065480"/>
            <a:ext cx="1435320" cy="1171440"/>
          </a:xfrm>
          <a:custGeom>
            <a:avLst/>
            <a:gdLst>
              <a:gd name="textAreaLeft" fmla="*/ -360 w 1435320"/>
              <a:gd name="textAreaRight" fmla="*/ 1435320 w 1435320"/>
              <a:gd name="textAreaTop" fmla="*/ 360 h 1171440"/>
              <a:gd name="textAreaBottom" fmla="*/ 1172160 h 1171440"/>
            </a:gdLst>
            <a:ahLst/>
            <a:rect l="textAreaLeft" t="textAreaTop" r="textAreaRight" b="textAreaBottom"/>
            <a:pathLst>
              <a:path fill="none" w="23346" h="21884">
                <a:moveTo>
                  <a:pt x="-1" y="70"/>
                </a:moveTo>
                <a:cubicBezTo>
                  <a:pt x="580" y="23"/>
                  <a:pt x="1163" y="-1"/>
                  <a:pt x="1746" y="0"/>
                </a:cubicBezTo>
                <a:cubicBezTo>
                  <a:pt x="13675" y="0"/>
                  <a:pt x="23346" y="9670"/>
                  <a:pt x="23346" y="21600"/>
                </a:cubicBezTo>
                <a:cubicBezTo>
                  <a:pt x="23346" y="21694"/>
                  <a:pt x="23345" y="21789"/>
                  <a:pt x="23344" y="21884"/>
                </a:cubicBezTo>
              </a:path>
              <a:path stroke="0" w="23346" h="21884">
                <a:moveTo>
                  <a:pt x="-1" y="70"/>
                </a:moveTo>
                <a:cubicBezTo>
                  <a:pt x="580" y="23"/>
                  <a:pt x="1163" y="-1"/>
                  <a:pt x="1746" y="0"/>
                </a:cubicBezTo>
                <a:cubicBezTo>
                  <a:pt x="13675" y="0"/>
                  <a:pt x="23346" y="9670"/>
                  <a:pt x="23346" y="21600"/>
                </a:cubicBezTo>
                <a:cubicBezTo>
                  <a:pt x="23346" y="21694"/>
                  <a:pt x="23345" y="21789"/>
                  <a:pt x="23344" y="21884"/>
                </a:cubicBezTo>
                <a:lnTo>
                  <a:pt x="1746" y="21600"/>
                </a:lnTo>
                <a:lnTo>
                  <a:pt x="-1" y="7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1"/>
          <p:cNvSpPr/>
          <p:nvPr/>
        </p:nvSpPr>
        <p:spPr>
          <a:xfrm flipV="1">
            <a:off x="5292720" y="3860280"/>
            <a:ext cx="302436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2"/>
          <p:cNvSpPr/>
          <p:nvPr/>
        </p:nvSpPr>
        <p:spPr>
          <a:xfrm>
            <a:off x="6732720" y="4797360"/>
            <a:ext cx="0" cy="719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33"/>
          <p:cNvSpPr/>
          <p:nvPr/>
        </p:nvSpPr>
        <p:spPr>
          <a:xfrm flipH="1">
            <a:off x="6156000" y="4797360"/>
            <a:ext cx="57636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34"/>
              <p:cNvSpPr txBox="1"/>
              <p:nvPr/>
            </p:nvSpPr>
            <p:spPr>
              <a:xfrm>
                <a:off x="6588000" y="5445000"/>
                <a:ext cx="3542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35"/>
              <p:cNvSpPr txBox="1"/>
              <p:nvPr/>
            </p:nvSpPr>
            <p:spPr>
              <a:xfrm>
                <a:off x="5867280" y="4508640"/>
                <a:ext cx="2858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1" name="Text Box 36"/>
          <p:cNvSpPr/>
          <p:nvPr/>
        </p:nvSpPr>
        <p:spPr>
          <a:xfrm>
            <a:off x="6949800" y="36450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7"/>
          <p:cNvSpPr/>
          <p:nvPr/>
        </p:nvSpPr>
        <p:spPr>
          <a:xfrm flipV="1">
            <a:off x="5724360" y="3716280"/>
            <a:ext cx="2303640" cy="19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38"/>
              <p:cNvSpPr txBox="1"/>
              <p:nvPr/>
            </p:nvSpPr>
            <p:spPr>
              <a:xfrm>
                <a:off x="8101080" y="4076640"/>
                <a:ext cx="79200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6"/>
          <p:cNvSpPr/>
          <p:nvPr/>
        </p:nvSpPr>
        <p:spPr>
          <a:xfrm>
            <a:off x="971640" y="4724280"/>
            <a:ext cx="3671640" cy="122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9"/>
          <p:cNvSpPr/>
          <p:nvPr/>
        </p:nvSpPr>
        <p:spPr>
          <a:xfrm>
            <a:off x="5076720" y="4869000"/>
            <a:ext cx="2232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еометрический смысл производн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13"/>
              <p:cNvSpPr txBox="1"/>
              <p:nvPr/>
            </p:nvSpPr>
            <p:spPr>
              <a:xfrm>
                <a:off x="3492360" y="4149720"/>
                <a:ext cx="10810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Line 5"/>
          <p:cNvSpPr/>
          <p:nvPr/>
        </p:nvSpPr>
        <p:spPr>
          <a:xfrm flipH="1" flipV="1">
            <a:off x="1835280" y="1988640"/>
            <a:ext cx="1440" cy="25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900000" y="4221000"/>
            <a:ext cx="3456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rc 7"/>
          <p:cNvSpPr/>
          <p:nvPr/>
        </p:nvSpPr>
        <p:spPr>
          <a:xfrm flipH="1" flipV="1" rot="5400000">
            <a:off x="2426400" y="2518560"/>
            <a:ext cx="1393920" cy="1579680"/>
          </a:xfrm>
          <a:custGeom>
            <a:avLst/>
            <a:gdLst>
              <a:gd name="textAreaLeft" fmla="*/ 360 w 1393920"/>
              <a:gd name="textAreaRight" fmla="*/ 1394640 w 1393920"/>
              <a:gd name="textAreaTop" fmla="*/ 360 h 1579680"/>
              <a:gd name="textAreaBottom" fmla="*/ 1580400 h 1579680"/>
            </a:gdLst>
            <a:ahLst/>
            <a:rect l="textAreaLeft" t="textAreaTop" r="textAreaRight" b="textAreaBottom"/>
            <a:pathLst>
              <a:path fill="none" w="21600" h="27050">
                <a:moveTo>
                  <a:pt x="1796" y="-1"/>
                </a:moveTo>
                <a:cubicBezTo>
                  <a:pt x="12990" y="933"/>
                  <a:pt x="21600" y="10291"/>
                  <a:pt x="21600" y="21525"/>
                </a:cubicBezTo>
                <a:cubicBezTo>
                  <a:pt x="21600" y="23389"/>
                  <a:pt x="21358" y="25246"/>
                  <a:pt x="20881" y="27049"/>
                </a:cubicBezTo>
              </a:path>
              <a:path stroke="0" w="21600" h="27050">
                <a:moveTo>
                  <a:pt x="1796" y="-1"/>
                </a:moveTo>
                <a:cubicBezTo>
                  <a:pt x="12990" y="933"/>
                  <a:pt x="21600" y="10291"/>
                  <a:pt x="21600" y="21525"/>
                </a:cubicBezTo>
                <a:cubicBezTo>
                  <a:pt x="21600" y="23389"/>
                  <a:pt x="21358" y="25246"/>
                  <a:pt x="20881" y="27049"/>
                </a:cubicBezTo>
                <a:lnTo>
                  <a:pt x="0" y="21525"/>
                </a:lnTo>
                <a:lnTo>
                  <a:pt x="1796" y="-1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8"/>
          <p:cNvSpPr/>
          <p:nvPr/>
        </p:nvSpPr>
        <p:spPr>
          <a:xfrm flipV="1">
            <a:off x="1187280" y="2349000"/>
            <a:ext cx="280836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9"/>
          <p:cNvSpPr/>
          <p:nvPr/>
        </p:nvSpPr>
        <p:spPr>
          <a:xfrm flipV="1">
            <a:off x="1692360" y="2276640"/>
            <a:ext cx="1800000" cy="20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0"/>
          <p:cNvSpPr/>
          <p:nvPr/>
        </p:nvSpPr>
        <p:spPr>
          <a:xfrm>
            <a:off x="2411280" y="357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1"/>
          <p:cNvSpPr/>
          <p:nvPr/>
        </p:nvSpPr>
        <p:spPr>
          <a:xfrm>
            <a:off x="3635280" y="2637000"/>
            <a:ext cx="0" cy="158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5"/>
          <p:cNvSpPr/>
          <p:nvPr/>
        </p:nvSpPr>
        <p:spPr>
          <a:xfrm>
            <a:off x="2411280" y="3500280"/>
            <a:ext cx="0" cy="7207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16"/>
              <p:cNvSpPr txBox="1"/>
              <p:nvPr/>
            </p:nvSpPr>
            <p:spPr>
              <a:xfrm>
                <a:off x="2124000" y="3141720"/>
                <a:ext cx="3002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8" name="Text Box 18"/>
          <p:cNvSpPr/>
          <p:nvPr/>
        </p:nvSpPr>
        <p:spPr>
          <a:xfrm>
            <a:off x="3494520" y="234936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9"/>
          <p:cNvSpPr/>
          <p:nvPr/>
        </p:nvSpPr>
        <p:spPr>
          <a:xfrm>
            <a:off x="2918520" y="24210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20"/>
          <p:cNvSpPr/>
          <p:nvPr/>
        </p:nvSpPr>
        <p:spPr>
          <a:xfrm flipV="1">
            <a:off x="3635280" y="256464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21"/>
          <p:cNvSpPr/>
          <p:nvPr/>
        </p:nvSpPr>
        <p:spPr>
          <a:xfrm>
            <a:off x="2987640" y="270828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2"/>
          <p:cNvSpPr/>
          <p:nvPr/>
        </p:nvSpPr>
        <p:spPr>
          <a:xfrm flipH="1">
            <a:off x="1835280" y="3573360"/>
            <a:ext cx="5760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23"/>
              <p:cNvSpPr txBox="1"/>
              <p:nvPr/>
            </p:nvSpPr>
            <p:spPr>
              <a:xfrm>
                <a:off x="2268360" y="4149720"/>
                <a:ext cx="3542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24"/>
              <p:cNvSpPr txBox="1"/>
              <p:nvPr/>
            </p:nvSpPr>
            <p:spPr>
              <a:xfrm>
                <a:off x="1547640" y="3500280"/>
                <a:ext cx="28584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5" name="Oval 25"/>
          <p:cNvSpPr/>
          <p:nvPr/>
        </p:nvSpPr>
        <p:spPr>
          <a:xfrm>
            <a:off x="2340000" y="35002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7"/>
          <p:cNvSpPr/>
          <p:nvPr/>
        </p:nvSpPr>
        <p:spPr>
          <a:xfrm flipV="1">
            <a:off x="2124000" y="2349000"/>
            <a:ext cx="719280" cy="18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8"/>
          <p:cNvSpPr/>
          <p:nvPr/>
        </p:nvSpPr>
        <p:spPr>
          <a:xfrm>
            <a:off x="2557440" y="22766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9"/>
          <p:cNvSpPr/>
          <p:nvPr/>
        </p:nvSpPr>
        <p:spPr>
          <a:xfrm>
            <a:off x="3059280" y="2708280"/>
            <a:ext cx="0" cy="1512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0"/>
          <p:cNvSpPr/>
          <p:nvPr/>
        </p:nvSpPr>
        <p:spPr>
          <a:xfrm flipV="1" rot="16200000">
            <a:off x="2699280" y="3931920"/>
            <a:ext cx="71640" cy="648000"/>
          </a:xfrm>
          <a:custGeom>
            <a:avLst/>
            <a:gdLst>
              <a:gd name="textAreaLeft" fmla="*/ 45720 w 71640"/>
              <a:gd name="textAreaRight" fmla="*/ 72000 w 71640"/>
              <a:gd name="textAreaTop" fmla="*/ 21600 h 648000"/>
              <a:gd name="textAreaBottom" fmla="*/ 62640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58"/>
                  <a:pt x="10800" y="2315"/>
                </a:cubicBezTo>
                <a:lnTo>
                  <a:pt x="10800" y="8644"/>
                </a:lnTo>
                <a:cubicBezTo>
                  <a:pt x="10800" y="9802"/>
                  <a:pt x="5400" y="10959"/>
                  <a:pt x="0" y="10959"/>
                </a:cubicBezTo>
                <a:cubicBezTo>
                  <a:pt x="5400" y="10959"/>
                  <a:pt x="10800" y="12117"/>
                  <a:pt x="10800" y="13274"/>
                </a:cubicBezTo>
                <a:lnTo>
                  <a:pt x="10800" y="19285"/>
                </a:lnTo>
                <a:cubicBezTo>
                  <a:pt x="10800" y="20443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31"/>
          <p:cNvSpPr/>
          <p:nvPr/>
        </p:nvSpPr>
        <p:spPr>
          <a:xfrm flipV="1" rot="16200000">
            <a:off x="2950920" y="3535920"/>
            <a:ext cx="144360" cy="1224000"/>
          </a:xfrm>
          <a:custGeom>
            <a:avLst/>
            <a:gdLst>
              <a:gd name="textAreaLeft" fmla="*/ 0 w 144360"/>
              <a:gd name="textAreaRight" fmla="*/ 52200 w 144360"/>
              <a:gd name="textAreaTop" fmla="*/ 39960 h 1224000"/>
              <a:gd name="textAreaBottom" fmla="*/ 11840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31"/>
                  <a:pt x="10800" y="2261"/>
                </a:cubicBezTo>
                <a:lnTo>
                  <a:pt x="10800" y="8826"/>
                </a:lnTo>
                <a:cubicBezTo>
                  <a:pt x="10800" y="9957"/>
                  <a:pt x="16200" y="11087"/>
                  <a:pt x="21600" y="11087"/>
                </a:cubicBezTo>
                <a:cubicBezTo>
                  <a:pt x="16200" y="11087"/>
                  <a:pt x="10800" y="12218"/>
                  <a:pt x="10800" y="13348"/>
                </a:cubicBezTo>
                <a:lnTo>
                  <a:pt x="10800" y="19339"/>
                </a:lnTo>
                <a:cubicBezTo>
                  <a:pt x="10800" y="2047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32"/>
              <p:cNvSpPr txBox="1"/>
              <p:nvPr/>
            </p:nvSpPr>
            <p:spPr>
              <a:xfrm>
                <a:off x="3059280" y="3789360"/>
                <a:ext cx="36972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33"/>
              <p:cNvSpPr txBox="1"/>
              <p:nvPr/>
            </p:nvSpPr>
            <p:spPr>
              <a:xfrm>
                <a:off x="2627280" y="4221000"/>
                <a:ext cx="37008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34"/>
              <p:cNvSpPr txBox="1"/>
              <p:nvPr/>
            </p:nvSpPr>
            <p:spPr>
              <a:xfrm>
                <a:off x="3851280" y="2565360"/>
                <a:ext cx="79200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Line 35"/>
          <p:cNvSpPr/>
          <p:nvPr/>
        </p:nvSpPr>
        <p:spPr>
          <a:xfrm flipH="1">
            <a:off x="1835280" y="2637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38"/>
              <p:cNvSpPr txBox="1"/>
              <p:nvPr/>
            </p:nvSpPr>
            <p:spPr>
              <a:xfrm>
                <a:off x="684360" y="2349360"/>
                <a:ext cx="111600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Δ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39"/>
              <p:cNvSpPr txBox="1"/>
              <p:nvPr/>
            </p:nvSpPr>
            <p:spPr>
              <a:xfrm>
                <a:off x="1332000" y="2924280"/>
                <a:ext cx="35856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AutoShape 40"/>
          <p:cNvSpPr/>
          <p:nvPr/>
        </p:nvSpPr>
        <p:spPr>
          <a:xfrm>
            <a:off x="1692360" y="2637000"/>
            <a:ext cx="142920" cy="93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rc 42"/>
          <p:cNvSpPr/>
          <p:nvPr/>
        </p:nvSpPr>
        <p:spPr>
          <a:xfrm>
            <a:off x="2700360" y="3284640"/>
            <a:ext cx="71280" cy="261720"/>
          </a:xfrm>
          <a:custGeom>
            <a:avLst/>
            <a:gdLst>
              <a:gd name="textAreaLeft" fmla="*/ 0 w 71280"/>
              <a:gd name="textAreaRight" fmla="*/ 71640 w 7128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fill="none" w="21600" h="26121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119"/>
                  <a:pt x="21439" y="24634"/>
                  <a:pt x="21121" y="26120"/>
                </a:cubicBezTo>
              </a:path>
              <a:path stroke="0" w="21600" h="26121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119"/>
                  <a:pt x="21439" y="24634"/>
                  <a:pt x="21121" y="2612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rc 43"/>
          <p:cNvSpPr/>
          <p:nvPr/>
        </p:nvSpPr>
        <p:spPr>
          <a:xfrm rot="21128400">
            <a:off x="2700360" y="3068640"/>
            <a:ext cx="287280" cy="552600"/>
          </a:xfrm>
          <a:custGeom>
            <a:avLst/>
            <a:gdLst>
              <a:gd name="textAreaLeft" fmla="*/ 0 w 287280"/>
              <a:gd name="textAreaRight" fmla="*/ 287640 w 28728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fill="none" w="21600" h="32666">
                <a:moveTo>
                  <a:pt x="10888" y="0"/>
                </a:moveTo>
                <a:cubicBezTo>
                  <a:pt x="17521" y="3872"/>
                  <a:pt x="21600" y="10974"/>
                  <a:pt x="21600" y="18655"/>
                </a:cubicBezTo>
                <a:cubicBezTo>
                  <a:pt x="21600" y="23790"/>
                  <a:pt x="19770" y="28757"/>
                  <a:pt x="16439" y="32665"/>
                </a:cubicBezTo>
              </a:path>
              <a:path stroke="0" w="21600" h="32666">
                <a:moveTo>
                  <a:pt x="10888" y="0"/>
                </a:moveTo>
                <a:cubicBezTo>
                  <a:pt x="17521" y="3872"/>
                  <a:pt x="21600" y="10974"/>
                  <a:pt x="21600" y="18655"/>
                </a:cubicBezTo>
                <a:cubicBezTo>
                  <a:pt x="21600" y="23790"/>
                  <a:pt x="19770" y="28757"/>
                  <a:pt x="16439" y="32665"/>
                </a:cubicBezTo>
                <a:lnTo>
                  <a:pt x="0" y="18655"/>
                </a:lnTo>
                <a:lnTo>
                  <a:pt x="10888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rc 44"/>
          <p:cNvSpPr/>
          <p:nvPr/>
        </p:nvSpPr>
        <p:spPr>
          <a:xfrm>
            <a:off x="2411280" y="3429000"/>
            <a:ext cx="81000" cy="287280"/>
          </a:xfrm>
          <a:custGeom>
            <a:avLst/>
            <a:gdLst>
              <a:gd name="textAreaLeft" fmla="*/ 0 w 81000"/>
              <a:gd name="textAreaRight" fmla="*/ 81000 w 81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19535" h="21600">
                <a:moveTo>
                  <a:pt x="-1" y="0"/>
                </a:moveTo>
                <a:cubicBezTo>
                  <a:pt x="8359" y="0"/>
                  <a:pt x="15968" y="4823"/>
                  <a:pt x="19535" y="12383"/>
                </a:cubicBezTo>
              </a:path>
              <a:path stroke="0" w="19535" h="21600">
                <a:moveTo>
                  <a:pt x="-1" y="0"/>
                </a:moveTo>
                <a:cubicBezTo>
                  <a:pt x="8359" y="0"/>
                  <a:pt x="15968" y="4823"/>
                  <a:pt x="19535" y="1238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45"/>
              <p:cNvSpPr txBox="1"/>
              <p:nvPr/>
            </p:nvSpPr>
            <p:spPr>
              <a:xfrm>
                <a:off x="2411280" y="3573360"/>
                <a:ext cx="20160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47"/>
              <p:cNvSpPr txBox="1"/>
              <p:nvPr/>
            </p:nvSpPr>
            <p:spPr>
              <a:xfrm>
                <a:off x="2771640" y="3213000"/>
                <a:ext cx="2397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48"/>
              <p:cNvSpPr txBox="1"/>
              <p:nvPr/>
            </p:nvSpPr>
            <p:spPr>
              <a:xfrm>
                <a:off x="6012000" y="3068640"/>
                <a:ext cx="1110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β</m:t>
                    </m:r>
                    <m:r>
                      <m:t xml:space="preserve">→</m:t>
                    </m:r>
                    <m:r>
                      <m:t xml:space="preserve">∠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49"/>
              <p:cNvSpPr txBox="1"/>
              <p:nvPr/>
            </p:nvSpPr>
            <p:spPr>
              <a:xfrm>
                <a:off x="5219640" y="2708280"/>
                <a:ext cx="194472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⇔</m:t>
                    </m:r>
                    <m:r>
                      <m:t xml:space="preserve">Δx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AutoShape 50"/>
          <p:cNvSpPr/>
          <p:nvPr/>
        </p:nvSpPr>
        <p:spPr>
          <a:xfrm>
            <a:off x="5292720" y="3141720"/>
            <a:ext cx="574560" cy="144360"/>
          </a:xfrm>
          <a:prstGeom prst="rightArrow">
            <a:avLst>
              <a:gd name="adj1" fmla="val 50000"/>
              <a:gd name="adj2" fmla="val 995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51"/>
              <p:cNvSpPr txBox="1"/>
              <p:nvPr/>
            </p:nvSpPr>
            <p:spPr>
              <a:xfrm>
                <a:off x="6084720" y="3429000"/>
                <a:ext cx="1111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β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AutoShape 52"/>
          <p:cNvSpPr/>
          <p:nvPr/>
        </p:nvSpPr>
        <p:spPr>
          <a:xfrm>
            <a:off x="5364000" y="3500280"/>
            <a:ext cx="503280" cy="142920"/>
          </a:xfrm>
          <a:prstGeom prst="rightArrow">
            <a:avLst>
              <a:gd name="adj1" fmla="val 50000"/>
              <a:gd name="adj2" fmla="val 880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53"/>
              <p:cNvSpPr txBox="1"/>
              <p:nvPr/>
            </p:nvSpPr>
            <p:spPr>
              <a:xfrm>
                <a:off x="5580000" y="3933720"/>
                <a:ext cx="16686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е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ас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9" name="Line 54"/>
          <p:cNvSpPr/>
          <p:nvPr/>
        </p:nvSpPr>
        <p:spPr>
          <a:xfrm>
            <a:off x="6300720" y="378936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55"/>
          <p:cNvSpPr/>
          <p:nvPr/>
        </p:nvSpPr>
        <p:spPr>
          <a:xfrm>
            <a:off x="6372360" y="378936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56"/>
          <p:cNvSpPr/>
          <p:nvPr/>
        </p:nvSpPr>
        <p:spPr>
          <a:xfrm>
            <a:off x="6948360" y="3789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57"/>
          <p:cNvSpPr/>
          <p:nvPr/>
        </p:nvSpPr>
        <p:spPr>
          <a:xfrm>
            <a:off x="7020000" y="3789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58"/>
              <p:cNvSpPr txBox="1"/>
              <p:nvPr/>
            </p:nvSpPr>
            <p:spPr>
              <a:xfrm>
                <a:off x="5076720" y="4869000"/>
                <a:ext cx="22352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ас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4" name="AutoShape 60"/>
          <p:cNvSpPr/>
          <p:nvPr/>
        </p:nvSpPr>
        <p:spPr>
          <a:xfrm>
            <a:off x="6227640" y="4581360"/>
            <a:ext cx="216000" cy="287640"/>
          </a:xfrm>
          <a:prstGeom prst="downArrow">
            <a:avLst>
              <a:gd name="adj1" fmla="val 50000"/>
              <a:gd name="adj2" fmla="val 332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1"/>
          <p:cNvSpPr/>
          <p:nvPr/>
        </p:nvSpPr>
        <p:spPr>
          <a:xfrm>
            <a:off x="1041120" y="4710240"/>
            <a:ext cx="35931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че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ной функции         в точ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гловому коэффициенту касатель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графику этой функции в точ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62"/>
              <p:cNvSpPr txBox="1"/>
              <p:nvPr/>
            </p:nvSpPr>
            <p:spPr>
              <a:xfrm>
                <a:off x="3419640" y="4797360"/>
                <a:ext cx="43164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63"/>
              <p:cNvSpPr txBox="1"/>
              <p:nvPr/>
            </p:nvSpPr>
            <p:spPr>
              <a:xfrm>
                <a:off x="4356000" y="4797360"/>
                <a:ext cx="2844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64"/>
              <p:cNvSpPr txBox="1"/>
              <p:nvPr/>
            </p:nvSpPr>
            <p:spPr>
              <a:xfrm>
                <a:off x="3419640" y="5300640"/>
                <a:ext cx="100800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65"/>
              <p:cNvSpPr txBox="1"/>
              <p:nvPr/>
            </p:nvSpPr>
            <p:spPr>
              <a:xfrm>
                <a:off x="1403280" y="5589720"/>
                <a:ext cx="9367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AutoShape 67"/>
          <p:cNvSpPr/>
          <p:nvPr/>
        </p:nvSpPr>
        <p:spPr>
          <a:xfrm>
            <a:off x="4643280" y="5157720"/>
            <a:ext cx="433440" cy="216000"/>
          </a:xfrm>
          <a:prstGeom prst="leftRightArrow">
            <a:avLst>
              <a:gd name="adj1" fmla="val 50000"/>
              <a:gd name="adj2" fmla="val 399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68"/>
          <p:cNvSpPr/>
          <p:nvPr/>
        </p:nvSpPr>
        <p:spPr>
          <a:xfrm>
            <a:off x="4500720" y="2852640"/>
            <a:ext cx="502920" cy="71640"/>
          </a:xfrm>
          <a:prstGeom prst="rightArrow">
            <a:avLst>
              <a:gd name="adj1" fmla="val 50000"/>
              <a:gd name="adj2" fmla="val 1755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0"/>
          <p:cNvSpPr/>
          <p:nvPr/>
        </p:nvSpPr>
        <p:spPr>
          <a:xfrm>
            <a:off x="1836360" y="4221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11280" y="1341360"/>
            <a:ext cx="59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равнение касате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 графику фун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ределение 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рмалью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к графику функции                    в точк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яма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проходящая через точ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пендикулярн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сательной прям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равнение нормали к графику фун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2"/>
          <p:cNvSpPr/>
          <p:nvPr/>
        </p:nvSpPr>
        <p:spPr>
          <a:xfrm>
            <a:off x="2771640" y="2565360"/>
            <a:ext cx="2592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8"/>
          <p:cNvSpPr/>
          <p:nvPr/>
        </p:nvSpPr>
        <p:spPr>
          <a:xfrm>
            <a:off x="826920" y="2565360"/>
            <a:ext cx="12970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3"/>
          <p:cNvSpPr/>
          <p:nvPr/>
        </p:nvSpPr>
        <p:spPr>
          <a:xfrm>
            <a:off x="4500720" y="5877000"/>
            <a:ext cx="280800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0"/>
          <p:cNvSpPr/>
          <p:nvPr/>
        </p:nvSpPr>
        <p:spPr>
          <a:xfrm>
            <a:off x="826920" y="5877000"/>
            <a:ext cx="2808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8"/>
          <p:cNvSpPr/>
          <p:nvPr/>
        </p:nvSpPr>
        <p:spPr>
          <a:xfrm>
            <a:off x="2556000" y="3429000"/>
            <a:ext cx="2881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5"/>
          <p:cNvSpPr/>
          <p:nvPr/>
        </p:nvSpPr>
        <p:spPr>
          <a:xfrm>
            <a:off x="6012000" y="3573360"/>
            <a:ext cx="2089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4"/>
              <p:cNvSpPr txBox="1"/>
              <p:nvPr/>
            </p:nvSpPr>
            <p:spPr>
              <a:xfrm>
                <a:off x="4067280" y="4292640"/>
                <a:ext cx="93636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6"/>
              <p:cNvSpPr txBox="1"/>
              <p:nvPr/>
            </p:nvSpPr>
            <p:spPr>
              <a:xfrm>
                <a:off x="5867280" y="4292640"/>
                <a:ext cx="2826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8"/>
              <p:cNvSpPr txBox="1"/>
              <p:nvPr/>
            </p:nvSpPr>
            <p:spPr>
              <a:xfrm>
                <a:off x="8675640" y="3213000"/>
                <a:ext cx="24624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9"/>
              <p:cNvSpPr txBox="1"/>
              <p:nvPr/>
            </p:nvSpPr>
            <p:spPr>
              <a:xfrm>
                <a:off x="6948360" y="3141720"/>
                <a:ext cx="339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10"/>
              <p:cNvSpPr txBox="1"/>
              <p:nvPr/>
            </p:nvSpPr>
            <p:spPr>
              <a:xfrm>
                <a:off x="5651640" y="4581360"/>
                <a:ext cx="8636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6" name="Text Box 11"/>
          <p:cNvSpPr/>
          <p:nvPr/>
        </p:nvSpPr>
        <p:spPr>
          <a:xfrm>
            <a:off x="4860720" y="4797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5"/>
          <p:cNvSpPr/>
          <p:nvPr/>
        </p:nvSpPr>
        <p:spPr>
          <a:xfrm flipV="1">
            <a:off x="6229440" y="1412640"/>
            <a:ext cx="0" cy="21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6"/>
          <p:cNvSpPr/>
          <p:nvPr/>
        </p:nvSpPr>
        <p:spPr>
          <a:xfrm>
            <a:off x="5292720" y="3213000"/>
            <a:ext cx="3456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rc 17"/>
          <p:cNvSpPr/>
          <p:nvPr/>
        </p:nvSpPr>
        <p:spPr>
          <a:xfrm flipH="1" flipV="1" rot="6492600">
            <a:off x="6744240" y="1761840"/>
            <a:ext cx="1434960" cy="1171440"/>
          </a:xfrm>
          <a:custGeom>
            <a:avLst/>
            <a:gdLst>
              <a:gd name="textAreaLeft" fmla="*/ 0 w 1434960"/>
              <a:gd name="textAreaRight" fmla="*/ 1434960 w 1434960"/>
              <a:gd name="textAreaTop" fmla="*/ 360 h 1171440"/>
              <a:gd name="textAreaBottom" fmla="*/ 1172160 h 1171440"/>
            </a:gdLst>
            <a:ahLst/>
            <a:rect l="textAreaLeft" t="textAreaTop" r="textAreaRight" b="textAreaBottom"/>
            <a:pathLst>
              <a:path fill="none" w="23346" h="21884">
                <a:moveTo>
                  <a:pt x="-1" y="70"/>
                </a:moveTo>
                <a:cubicBezTo>
                  <a:pt x="580" y="23"/>
                  <a:pt x="1163" y="-1"/>
                  <a:pt x="1746" y="0"/>
                </a:cubicBezTo>
                <a:cubicBezTo>
                  <a:pt x="13675" y="0"/>
                  <a:pt x="23346" y="9670"/>
                  <a:pt x="23346" y="21600"/>
                </a:cubicBezTo>
                <a:cubicBezTo>
                  <a:pt x="23346" y="21694"/>
                  <a:pt x="23345" y="21789"/>
                  <a:pt x="23344" y="21884"/>
                </a:cubicBezTo>
              </a:path>
              <a:path stroke="0" w="23346" h="21884">
                <a:moveTo>
                  <a:pt x="-1" y="70"/>
                </a:moveTo>
                <a:cubicBezTo>
                  <a:pt x="580" y="23"/>
                  <a:pt x="1163" y="-1"/>
                  <a:pt x="1746" y="0"/>
                </a:cubicBezTo>
                <a:cubicBezTo>
                  <a:pt x="13675" y="0"/>
                  <a:pt x="23346" y="9670"/>
                  <a:pt x="23346" y="21600"/>
                </a:cubicBezTo>
                <a:cubicBezTo>
                  <a:pt x="23346" y="21694"/>
                  <a:pt x="23345" y="21789"/>
                  <a:pt x="23344" y="21884"/>
                </a:cubicBezTo>
                <a:lnTo>
                  <a:pt x="1746" y="21600"/>
                </a:lnTo>
                <a:lnTo>
                  <a:pt x="-1" y="7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8"/>
          <p:cNvSpPr/>
          <p:nvPr/>
        </p:nvSpPr>
        <p:spPr>
          <a:xfrm flipV="1">
            <a:off x="7093080" y="2133720"/>
            <a:ext cx="0" cy="1079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9"/>
          <p:cNvSpPr/>
          <p:nvPr/>
        </p:nvSpPr>
        <p:spPr>
          <a:xfrm flipV="1">
            <a:off x="6012000" y="1197000"/>
            <a:ext cx="1944720" cy="20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20"/>
          <p:cNvSpPr/>
          <p:nvPr/>
        </p:nvSpPr>
        <p:spPr>
          <a:xfrm>
            <a:off x="7020000" y="21337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1"/>
          <p:cNvSpPr/>
          <p:nvPr/>
        </p:nvSpPr>
        <p:spPr>
          <a:xfrm flipH="1">
            <a:off x="6227640" y="2133720"/>
            <a:ext cx="86544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rc 22"/>
          <p:cNvSpPr/>
          <p:nvPr/>
        </p:nvSpPr>
        <p:spPr>
          <a:xfrm>
            <a:off x="6300720" y="2924280"/>
            <a:ext cx="142920" cy="288720"/>
          </a:xfrm>
          <a:custGeom>
            <a:avLst/>
            <a:gdLst>
              <a:gd name="textAreaLeft" fmla="*/ 0 w 142920"/>
              <a:gd name="textAreaRight" fmla="*/ 143280 w 1429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23"/>
              <p:cNvSpPr txBox="1"/>
              <p:nvPr/>
            </p:nvSpPr>
            <p:spPr>
              <a:xfrm>
                <a:off x="6443640" y="1413000"/>
                <a:ext cx="28584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Line 24"/>
          <p:cNvSpPr/>
          <p:nvPr/>
        </p:nvSpPr>
        <p:spPr>
          <a:xfrm flipH="1" flipV="1">
            <a:off x="6443640" y="1628640"/>
            <a:ext cx="1441440" cy="126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25"/>
              <p:cNvSpPr txBox="1"/>
              <p:nvPr/>
            </p:nvSpPr>
            <p:spPr>
              <a:xfrm>
                <a:off x="7451640" y="1125360"/>
                <a:ext cx="50508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28"/>
              <p:cNvSpPr txBox="1"/>
              <p:nvPr/>
            </p:nvSpPr>
            <p:spPr>
              <a:xfrm>
                <a:off x="4521240" y="3346560"/>
                <a:ext cx="4046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29"/>
              <p:cNvSpPr txBox="1"/>
              <p:nvPr/>
            </p:nvSpPr>
            <p:spPr>
              <a:xfrm>
                <a:off x="5940360" y="1916280"/>
                <a:ext cx="2858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0" name="Line 30"/>
          <p:cNvSpPr/>
          <p:nvPr/>
        </p:nvSpPr>
        <p:spPr>
          <a:xfrm flipV="1">
            <a:off x="6948360" y="1988640"/>
            <a:ext cx="71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1"/>
          <p:cNvSpPr/>
          <p:nvPr/>
        </p:nvSpPr>
        <p:spPr>
          <a:xfrm>
            <a:off x="7020000" y="198900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32"/>
              <p:cNvSpPr txBox="1"/>
              <p:nvPr/>
            </p:nvSpPr>
            <p:spPr>
              <a:xfrm>
                <a:off x="6012000" y="1341360"/>
                <a:ext cx="250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Text Box 33"/>
          <p:cNvSpPr/>
          <p:nvPr/>
        </p:nvSpPr>
        <p:spPr>
          <a:xfrm>
            <a:off x="6228720" y="3213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34"/>
              <p:cNvSpPr txBox="1"/>
              <p:nvPr/>
            </p:nvSpPr>
            <p:spPr>
              <a:xfrm>
                <a:off x="7596360" y="1484280"/>
                <a:ext cx="79200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35"/>
              <p:cNvSpPr txBox="1"/>
              <p:nvPr/>
            </p:nvSpPr>
            <p:spPr>
              <a:xfrm>
                <a:off x="6443640" y="292428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36"/>
              <p:cNvSpPr txBox="1"/>
              <p:nvPr/>
            </p:nvSpPr>
            <p:spPr>
              <a:xfrm>
                <a:off x="7164360" y="2060640"/>
                <a:ext cx="72072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37"/>
              <p:cNvSpPr txBox="1"/>
              <p:nvPr/>
            </p:nvSpPr>
            <p:spPr>
              <a:xfrm>
                <a:off x="900000" y="2565360"/>
                <a:ext cx="12240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AutoShape 40"/>
          <p:cNvSpPr/>
          <p:nvPr/>
        </p:nvSpPr>
        <p:spPr>
          <a:xfrm>
            <a:off x="2195640" y="2708280"/>
            <a:ext cx="503280" cy="73080"/>
          </a:xfrm>
          <a:prstGeom prst="rightArrow">
            <a:avLst>
              <a:gd name="adj1" fmla="val 50000"/>
              <a:gd name="adj2" fmla="val 1721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41"/>
              <p:cNvSpPr txBox="1"/>
              <p:nvPr/>
            </p:nvSpPr>
            <p:spPr>
              <a:xfrm>
                <a:off x="2771640" y="2565360"/>
                <a:ext cx="25923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44"/>
              <p:cNvSpPr txBox="1"/>
              <p:nvPr/>
            </p:nvSpPr>
            <p:spPr>
              <a:xfrm>
                <a:off x="6012000" y="3500280"/>
                <a:ext cx="20890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47"/>
              <p:cNvSpPr txBox="1"/>
              <p:nvPr/>
            </p:nvSpPr>
            <p:spPr>
              <a:xfrm>
                <a:off x="2556000" y="3429000"/>
                <a:ext cx="28796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49"/>
              <p:cNvSpPr txBox="1"/>
              <p:nvPr/>
            </p:nvSpPr>
            <p:spPr>
              <a:xfrm>
                <a:off x="826920" y="5805360"/>
                <a:ext cx="280836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3" name="AutoShape 51"/>
          <p:cNvSpPr/>
          <p:nvPr/>
        </p:nvSpPr>
        <p:spPr>
          <a:xfrm>
            <a:off x="3780000" y="6165720"/>
            <a:ext cx="576000" cy="71640"/>
          </a:xfrm>
          <a:prstGeom prst="rightArrow">
            <a:avLst>
              <a:gd name="adj1" fmla="val 50000"/>
              <a:gd name="adj2" fmla="val 2010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52"/>
              <p:cNvSpPr txBox="1"/>
              <p:nvPr/>
            </p:nvSpPr>
            <p:spPr>
              <a:xfrm>
                <a:off x="4500720" y="5805360"/>
                <a:ext cx="282384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AutoShape 54"/>
          <p:cNvSpPr/>
          <p:nvPr/>
        </p:nvSpPr>
        <p:spPr>
          <a:xfrm>
            <a:off x="5651640" y="3573360"/>
            <a:ext cx="215640" cy="3222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322200"/>
              <a:gd name="textAreaBottom" fmla="*/ 308520 h 322200"/>
            </a:gdLst>
            <a:ahLst/>
            <a:rect l="textAreaLeft" t="textAreaTop" r="textAreaRight" b="textAreaBottom"/>
            <a:pathLst>
              <a:path w="21600" h="32256">
                <a:moveTo>
                  <a:pt x="0" y="0"/>
                </a:moveTo>
                <a:lnTo>
                  <a:pt x="21600" y="0"/>
                </a:lnTo>
                <a:lnTo>
                  <a:pt x="21600" y="32256"/>
                </a:lnTo>
                <a:lnTo>
                  <a:pt x="0" y="32256"/>
                </a:lnTo>
                <a:close/>
              </a:path>
              <a:path fill="lightenLess" w="21600" h="322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256">
                <a:moveTo>
                  <a:pt x="21600" y="0"/>
                </a:moveTo>
                <a:lnTo>
                  <a:pt x="21600" y="32256"/>
                </a:lnTo>
                <a:lnTo>
                  <a:pt x="20200" y="30856"/>
                </a:lnTo>
                <a:lnTo>
                  <a:pt x="20200" y="1400"/>
                </a:lnTo>
                <a:close/>
              </a:path>
              <a:path fill="darkenLess" w="21600" h="32256">
                <a:moveTo>
                  <a:pt x="21600" y="32256"/>
                </a:moveTo>
                <a:lnTo>
                  <a:pt x="0" y="32256"/>
                </a:lnTo>
                <a:lnTo>
                  <a:pt x="1400" y="30856"/>
                </a:lnTo>
                <a:lnTo>
                  <a:pt x="20200" y="30856"/>
                </a:lnTo>
                <a:close/>
              </a:path>
              <a:path fill="lighten" w="21600" h="32256">
                <a:moveTo>
                  <a:pt x="0" y="32256"/>
                </a:moveTo>
                <a:lnTo>
                  <a:pt x="0" y="0"/>
                </a:lnTo>
                <a:lnTo>
                  <a:pt x="1400" y="1400"/>
                </a:lnTo>
                <a:lnTo>
                  <a:pt x="1400" y="30856"/>
                </a:lnTo>
                <a:close/>
              </a:path>
              <a:path fill="darken" w="21600" h="32256">
                <a:moveTo>
                  <a:pt x="10800" y="20132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2256">
                <a:moveTo>
                  <a:pt x="11905" y="19609"/>
                </a:moveTo>
                <a:lnTo>
                  <a:pt x="11905" y="17651"/>
                </a:lnTo>
                <a:cubicBezTo>
                  <a:pt x="11905" y="16824"/>
                  <a:pt x="12236" y="16128"/>
                  <a:pt x="12837" y="16128"/>
                </a:cubicBezTo>
                <a:cubicBezTo>
                  <a:pt x="13968" y="16128"/>
                  <a:pt x="14865" y="14762"/>
                  <a:pt x="14865" y="13177"/>
                </a:cubicBezTo>
                <a:cubicBezTo>
                  <a:pt x="14865" y="10862"/>
                  <a:pt x="13011" y="9122"/>
                  <a:pt x="10800" y="9122"/>
                </a:cubicBezTo>
                <a:cubicBezTo>
                  <a:pt x="8589" y="9122"/>
                  <a:pt x="6918" y="10862"/>
                  <a:pt x="6918" y="13177"/>
                </a:cubicBezTo>
                <a:lnTo>
                  <a:pt x="8772" y="13177"/>
                </a:lnTo>
                <a:cubicBezTo>
                  <a:pt x="8772" y="12037"/>
                  <a:pt x="9695" y="11149"/>
                  <a:pt x="10800" y="11149"/>
                </a:cubicBezTo>
                <a:cubicBezTo>
                  <a:pt x="11905" y="11149"/>
                  <a:pt x="12837" y="12037"/>
                  <a:pt x="12837" y="13177"/>
                </a:cubicBezTo>
                <a:cubicBezTo>
                  <a:pt x="12837" y="13917"/>
                  <a:pt x="12367" y="14648"/>
                  <a:pt x="11905" y="14648"/>
                </a:cubicBezTo>
                <a:cubicBezTo>
                  <a:pt x="10800" y="14648"/>
                  <a:pt x="9695" y="16128"/>
                  <a:pt x="9695" y="17651"/>
                </a:cubicBezTo>
                <a:lnTo>
                  <a:pt x="9695" y="1960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46"/>
          <p:cNvSpPr/>
          <p:nvPr/>
        </p:nvSpPr>
        <p:spPr>
          <a:xfrm>
            <a:off x="3924360" y="2997360"/>
            <a:ext cx="288720" cy="430200"/>
          </a:xfrm>
          <a:prstGeom prst="downArrow">
            <a:avLst>
              <a:gd name="adj1" fmla="val 50000"/>
              <a:gd name="adj2" fmla="val 372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8"/>
          <p:cNvSpPr/>
          <p:nvPr/>
        </p:nvSpPr>
        <p:spPr>
          <a:xfrm>
            <a:off x="3276720" y="5300640"/>
            <a:ext cx="29509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6"/>
          <p:cNvSpPr/>
          <p:nvPr/>
        </p:nvSpPr>
        <p:spPr>
          <a:xfrm>
            <a:off x="3635280" y="4724280"/>
            <a:ext cx="22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вязь между существованием производ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непрерывностью функ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оре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5"/>
              <p:cNvSpPr txBox="1"/>
              <p:nvPr/>
            </p:nvSpPr>
            <p:spPr>
              <a:xfrm>
                <a:off x="1187280" y="2421000"/>
                <a:ext cx="324504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непрерывна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Text Box 4"/>
          <p:cNvSpPr/>
          <p:nvPr/>
        </p:nvSpPr>
        <p:spPr>
          <a:xfrm>
            <a:off x="1332000" y="2625840"/>
            <a:ext cx="503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7"/>
              <p:cNvSpPr txBox="1"/>
              <p:nvPr/>
            </p:nvSpPr>
            <p:spPr>
              <a:xfrm>
                <a:off x="1258920" y="2997360"/>
                <a:ext cx="180036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9"/>
              <p:cNvSpPr txBox="1"/>
              <p:nvPr/>
            </p:nvSpPr>
            <p:spPr>
              <a:xfrm>
                <a:off x="3635280" y="2997360"/>
                <a:ext cx="19828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Δх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AutoShape 10"/>
          <p:cNvSpPr/>
          <p:nvPr/>
        </p:nvSpPr>
        <p:spPr>
          <a:xfrm>
            <a:off x="3132000" y="321300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1">
            <a:hlinkClick r:id="rId1"/>
          </p:cNvPr>
          <p:cNvSpPr/>
          <p:nvPr/>
        </p:nvSpPr>
        <p:spPr>
          <a:xfrm>
            <a:off x="5724360" y="306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12"/>
              <p:cNvSpPr txBox="1"/>
              <p:nvPr/>
            </p:nvSpPr>
            <p:spPr>
              <a:xfrm>
                <a:off x="3635280" y="4076640"/>
                <a:ext cx="259236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Δx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AutoShape 13"/>
          <p:cNvSpPr/>
          <p:nvPr/>
        </p:nvSpPr>
        <p:spPr>
          <a:xfrm>
            <a:off x="4643280" y="3860640"/>
            <a:ext cx="144720" cy="216000"/>
          </a:xfrm>
          <a:prstGeom prst="downArrow">
            <a:avLst>
              <a:gd name="adj1" fmla="val 50000"/>
              <a:gd name="adj2" fmla="val 373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14"/>
              <p:cNvSpPr txBox="1"/>
              <p:nvPr/>
            </p:nvSpPr>
            <p:spPr>
              <a:xfrm>
                <a:off x="3708360" y="4724280"/>
                <a:ext cx="203832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ри</m:t>
                    </m:r>
                    <m:r>
                      <m:t xml:space="preserve"> </m:t>
                    </m:r>
                    <m:r>
                      <m:t xml:space="preserve">Δx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AutoShape 15"/>
          <p:cNvSpPr/>
          <p:nvPr/>
        </p:nvSpPr>
        <p:spPr>
          <a:xfrm>
            <a:off x="4643280" y="4437000"/>
            <a:ext cx="142920" cy="216000"/>
          </a:xfrm>
          <a:prstGeom prst="downArrow">
            <a:avLst>
              <a:gd name="adj1" fmla="val 50000"/>
              <a:gd name="adj2" fmla="val 377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17"/>
              <p:cNvSpPr txBox="1"/>
              <p:nvPr/>
            </p:nvSpPr>
            <p:spPr>
              <a:xfrm>
                <a:off x="3348000" y="5300640"/>
                <a:ext cx="27432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непрерывна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2" name="AutoShape 19"/>
          <p:cNvSpPr/>
          <p:nvPr/>
        </p:nvSpPr>
        <p:spPr>
          <a:xfrm>
            <a:off x="4643280" y="5084640"/>
            <a:ext cx="142920" cy="216000"/>
          </a:xfrm>
          <a:prstGeom prst="downArrow">
            <a:avLst>
              <a:gd name="adj1" fmla="val 50000"/>
              <a:gd name="adj2" fmla="val 377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0"/>
          <p:cNvSpPr/>
          <p:nvPr/>
        </p:nvSpPr>
        <p:spPr>
          <a:xfrm>
            <a:off x="6372360" y="5300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10800" y="1485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708">
                <a:moveTo>
                  <a:pt x="11905" y="14336"/>
                </a:moveTo>
                <a:lnTo>
                  <a:pt x="11905" y="12377"/>
                </a:lnTo>
                <a:cubicBezTo>
                  <a:pt x="11905" y="11550"/>
                  <a:pt x="12236" y="10854"/>
                  <a:pt x="12837" y="10854"/>
                </a:cubicBezTo>
                <a:cubicBezTo>
                  <a:pt x="13968" y="10854"/>
                  <a:pt x="14865" y="9488"/>
                  <a:pt x="14865" y="7904"/>
                </a:cubicBezTo>
                <a:cubicBezTo>
                  <a:pt x="14865" y="5588"/>
                  <a:pt x="13011" y="3848"/>
                  <a:pt x="10800" y="3848"/>
                </a:cubicBezTo>
                <a:cubicBezTo>
                  <a:pt x="8589" y="3848"/>
                  <a:pt x="6918" y="5588"/>
                  <a:pt x="6918" y="7904"/>
                </a:cubicBezTo>
                <a:lnTo>
                  <a:pt x="8772" y="7904"/>
                </a:lnTo>
                <a:cubicBezTo>
                  <a:pt x="8772" y="6763"/>
                  <a:pt x="9695" y="5876"/>
                  <a:pt x="10800" y="5876"/>
                </a:cubicBezTo>
                <a:cubicBezTo>
                  <a:pt x="11905" y="5876"/>
                  <a:pt x="12837" y="6763"/>
                  <a:pt x="12837" y="7904"/>
                </a:cubicBezTo>
                <a:cubicBezTo>
                  <a:pt x="12837" y="8643"/>
                  <a:pt x="12367" y="9375"/>
                  <a:pt x="11905" y="9375"/>
                </a:cubicBezTo>
                <a:cubicBezTo>
                  <a:pt x="10800" y="9375"/>
                  <a:pt x="9695" y="10854"/>
                  <a:pt x="9695" y="12377"/>
                </a:cubicBezTo>
                <a:lnTo>
                  <a:pt x="9695" y="1433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вила дифференц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у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г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4"/>
              <p:cNvSpPr txBox="1"/>
              <p:nvPr/>
            </p:nvSpPr>
            <p:spPr>
              <a:xfrm>
                <a:off x="1332000" y="1844640"/>
                <a:ext cx="178272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∃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6"/>
              <p:cNvSpPr txBox="1"/>
              <p:nvPr/>
            </p:nvSpPr>
            <p:spPr>
              <a:xfrm>
                <a:off x="1042920" y="2492280"/>
                <a:ext cx="28814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±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±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8"/>
              <p:cNvSpPr txBox="1"/>
              <p:nvPr/>
            </p:nvSpPr>
            <p:spPr>
              <a:xfrm>
                <a:off x="1042920" y="2781360"/>
                <a:ext cx="369720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9"/>
              <p:cNvSpPr txBox="1"/>
              <p:nvPr/>
            </p:nvSpPr>
            <p:spPr>
              <a:xfrm>
                <a:off x="1116000" y="3068640"/>
                <a:ext cx="199548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10"/>
              <p:cNvSpPr txBox="1"/>
              <p:nvPr/>
            </p:nvSpPr>
            <p:spPr>
              <a:xfrm>
                <a:off x="1039680" y="3141720"/>
                <a:ext cx="45770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если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Line 11"/>
          <p:cNvSpPr/>
          <p:nvPr/>
        </p:nvSpPr>
        <p:spPr>
          <a:xfrm>
            <a:off x="5867280" y="2421000"/>
            <a:ext cx="0" cy="20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6013080" y="2271600"/>
            <a:ext cx="3016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казательство 1 правила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для суммы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 ша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 ша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 ша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13"/>
              <p:cNvSpPr txBox="1"/>
              <p:nvPr/>
            </p:nvSpPr>
            <p:spPr>
              <a:xfrm>
                <a:off x="6516720" y="2708280"/>
                <a:ext cx="15843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Δf</m:t>
                    </m:r>
                    <m:r>
                      <m:t xml:space="preserve">+</m:t>
                    </m:r>
                    <m:r>
                      <m:t xml:space="preserve">Δ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14"/>
              <p:cNvSpPr txBox="1"/>
              <p:nvPr/>
            </p:nvSpPr>
            <p:spPr>
              <a:xfrm>
                <a:off x="6516720" y="2997360"/>
                <a:ext cx="15112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f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Δg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15"/>
              <p:cNvSpPr txBox="1"/>
              <p:nvPr/>
            </p:nvSpPr>
            <p:spPr>
              <a:xfrm>
                <a:off x="6156360" y="3500280"/>
                <a:ext cx="25812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f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+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g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16"/>
              <p:cNvSpPr txBox="1"/>
              <p:nvPr/>
            </p:nvSpPr>
            <p:spPr>
              <a:xfrm>
                <a:off x="6156360" y="3645000"/>
                <a:ext cx="22176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есть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блица производных основных элементарных функ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5"/>
              <p:cNvSpPr txBox="1"/>
              <p:nvPr/>
            </p:nvSpPr>
            <p:spPr>
              <a:xfrm>
                <a:off x="1476360" y="2060640"/>
                <a:ext cx="68112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C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7"/>
              <p:cNvSpPr txBox="1"/>
              <p:nvPr/>
            </p:nvSpPr>
            <p:spPr>
              <a:xfrm>
                <a:off x="1476360" y="2276640"/>
                <a:ext cx="122400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n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9"/>
              <p:cNvSpPr txBox="1"/>
              <p:nvPr/>
            </p:nvSpPr>
            <p:spPr>
              <a:xfrm>
                <a:off x="1476360" y="2565360"/>
                <a:ext cx="11685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10"/>
              <p:cNvSpPr txBox="1"/>
              <p:nvPr/>
            </p:nvSpPr>
            <p:spPr>
              <a:xfrm>
                <a:off x="1476360" y="2781360"/>
                <a:ext cx="93492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12"/>
              <p:cNvSpPr txBox="1"/>
              <p:nvPr/>
            </p:nvSpPr>
            <p:spPr>
              <a:xfrm>
                <a:off x="1547640" y="2997360"/>
                <a:ext cx="14418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14"/>
              <p:cNvSpPr txBox="1"/>
              <p:nvPr/>
            </p:nvSpPr>
            <p:spPr>
              <a:xfrm>
                <a:off x="1547640" y="3357720"/>
                <a:ext cx="9352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5" name="Line 15"/>
          <p:cNvSpPr/>
          <p:nvPr/>
        </p:nvSpPr>
        <p:spPr>
          <a:xfrm>
            <a:off x="1258920" y="3933720"/>
            <a:ext cx="381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16"/>
              <p:cNvSpPr txBox="1"/>
              <p:nvPr/>
            </p:nvSpPr>
            <p:spPr>
              <a:xfrm>
                <a:off x="1463760" y="4032360"/>
                <a:ext cx="130788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17"/>
              <p:cNvSpPr txBox="1"/>
              <p:nvPr/>
            </p:nvSpPr>
            <p:spPr>
              <a:xfrm>
                <a:off x="1476360" y="4292640"/>
                <a:ext cx="144000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18"/>
              <p:cNvSpPr txBox="1"/>
              <p:nvPr/>
            </p:nvSpPr>
            <p:spPr>
              <a:xfrm>
                <a:off x="1547640" y="4437000"/>
                <a:ext cx="13384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 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19"/>
              <p:cNvSpPr txBox="1"/>
              <p:nvPr/>
            </p:nvSpPr>
            <p:spPr>
              <a:xfrm>
                <a:off x="1547640" y="4941720"/>
                <a:ext cx="15447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 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20"/>
              <p:cNvSpPr txBox="1"/>
              <p:nvPr/>
            </p:nvSpPr>
            <p:spPr>
              <a:xfrm>
                <a:off x="3203640" y="2133720"/>
                <a:ext cx="5763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21"/>
              <p:cNvSpPr txBox="1"/>
              <p:nvPr/>
            </p:nvSpPr>
            <p:spPr>
              <a:xfrm>
                <a:off x="3203640" y="2349360"/>
                <a:ext cx="726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22"/>
              <p:cNvSpPr txBox="1"/>
              <p:nvPr/>
            </p:nvSpPr>
            <p:spPr>
              <a:xfrm>
                <a:off x="3203640" y="2565360"/>
                <a:ext cx="8618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3" name="Line 23"/>
          <p:cNvSpPr/>
          <p:nvPr/>
        </p:nvSpPr>
        <p:spPr>
          <a:xfrm flipV="1">
            <a:off x="2771640" y="2276280"/>
            <a:ext cx="432000" cy="21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4"/>
          <p:cNvSpPr/>
          <p:nvPr/>
        </p:nvSpPr>
        <p:spPr>
          <a:xfrm>
            <a:off x="2771640" y="2492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25"/>
          <p:cNvSpPr/>
          <p:nvPr/>
        </p:nvSpPr>
        <p:spPr>
          <a:xfrm>
            <a:off x="2771640" y="249228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6"/>
          <p:cNvSpPr/>
          <p:nvPr/>
        </p:nvSpPr>
        <p:spPr>
          <a:xfrm>
            <a:off x="4408920" y="3798720"/>
            <a:ext cx="394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Object 27"/>
              <p:cNvSpPr txBox="1"/>
              <p:nvPr/>
            </p:nvSpPr>
            <p:spPr>
              <a:xfrm>
                <a:off x="4788000" y="3933720"/>
                <a:ext cx="172872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28"/>
              <p:cNvSpPr txBox="1"/>
              <p:nvPr/>
            </p:nvSpPr>
            <p:spPr>
              <a:xfrm>
                <a:off x="4788000" y="4508640"/>
                <a:ext cx="190332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29"/>
              <p:cNvSpPr txBox="1"/>
              <p:nvPr/>
            </p:nvSpPr>
            <p:spPr>
              <a:xfrm>
                <a:off x="4788000" y="5084640"/>
                <a:ext cx="15843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rctgx {</m:t>
                        </m:r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30"/>
              <p:cNvSpPr txBox="1"/>
              <p:nvPr/>
            </p:nvSpPr>
            <p:spPr>
              <a:xfrm>
                <a:off x="4788000" y="5589720"/>
                <a:ext cx="18223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rcctgx {</m:t>
                        </m:r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Freeform 22"/>
          <p:cNvSpPr/>
          <p:nvPr/>
        </p:nvSpPr>
        <p:spPr>
          <a:xfrm rot="5729400">
            <a:off x="5107680" y="4332960"/>
            <a:ext cx="492120" cy="411120"/>
          </a:xfrm>
          <a:custGeom>
            <a:avLst/>
            <a:gdLst>
              <a:gd name="textAreaLeft" fmla="*/ 0 w 492120"/>
              <a:gd name="textAreaRight" fmla="*/ 492480 w 49212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310" h="259">
                <a:moveTo>
                  <a:pt x="303" y="58"/>
                </a:moveTo>
                <a:cubicBezTo>
                  <a:pt x="296" y="41"/>
                  <a:pt x="291" y="9"/>
                  <a:pt x="265" y="6"/>
                </a:cubicBezTo>
                <a:cubicBezTo>
                  <a:pt x="206" y="0"/>
                  <a:pt x="103" y="24"/>
                  <a:pt x="48" y="51"/>
                </a:cubicBezTo>
                <a:cubicBezTo>
                  <a:pt x="11" y="107"/>
                  <a:pt x="0" y="144"/>
                  <a:pt x="63" y="193"/>
                </a:cubicBezTo>
                <a:cubicBezTo>
                  <a:pt x="73" y="201"/>
                  <a:pt x="115" y="227"/>
                  <a:pt x="131" y="238"/>
                </a:cubicBezTo>
                <a:cubicBezTo>
                  <a:pt x="138" y="243"/>
                  <a:pt x="153" y="253"/>
                  <a:pt x="153" y="253"/>
                </a:cubicBezTo>
                <a:cubicBezTo>
                  <a:pt x="196" y="247"/>
                  <a:pt x="255" y="259"/>
                  <a:pt x="280" y="223"/>
                </a:cubicBezTo>
                <a:cubicBezTo>
                  <a:pt x="293" y="205"/>
                  <a:pt x="310" y="163"/>
                  <a:pt x="310" y="163"/>
                </a:cubicBezTo>
                <a:cubicBezTo>
                  <a:pt x="305" y="141"/>
                  <a:pt x="297" y="119"/>
                  <a:pt x="295" y="96"/>
                </a:cubicBezTo>
                <a:cubicBezTo>
                  <a:pt x="292" y="56"/>
                  <a:pt x="310" y="77"/>
                  <a:pt x="310" y="43"/>
                </a:cubicBezTo>
                <a:cubicBezTo>
                  <a:pt x="310" y="37"/>
                  <a:pt x="305" y="53"/>
                  <a:pt x="303" y="58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вод формулы 7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4"/>
              <p:cNvSpPr txBox="1"/>
              <p:nvPr/>
            </p:nvSpPr>
            <p:spPr>
              <a:xfrm>
                <a:off x="2411280" y="1628640"/>
                <a:ext cx="139716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6"/>
              <p:cNvSpPr txBox="1"/>
              <p:nvPr/>
            </p:nvSpPr>
            <p:spPr>
              <a:xfrm>
                <a:off x="1042920" y="1989000"/>
                <a:ext cx="23767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Δ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Δ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8"/>
              <p:cNvSpPr txBox="1"/>
              <p:nvPr/>
            </p:nvSpPr>
            <p:spPr>
              <a:xfrm>
                <a:off x="1116000" y="2276640"/>
                <a:ext cx="2827440" cy="14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f>
                          <m:num>
                            <m:r>
                              <m:t xml:space="preserve">Δ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Δ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Δ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Δ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9"/>
              <p:cNvSpPr txBox="1"/>
              <p:nvPr/>
            </p:nvSpPr>
            <p:spPr>
              <a:xfrm>
                <a:off x="1042920" y="3141720"/>
                <a:ext cx="3968640" cy="14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Δ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Δ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Δ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10"/>
              <p:cNvSpPr txBox="1"/>
              <p:nvPr/>
            </p:nvSpPr>
            <p:spPr>
              <a:xfrm>
                <a:off x="1476360" y="4581360"/>
                <a:ext cx="139716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Line 11"/>
          <p:cNvSpPr/>
          <p:nvPr/>
        </p:nvSpPr>
        <p:spPr>
          <a:xfrm>
            <a:off x="1547640" y="436572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2"/>
          <p:cNvSpPr/>
          <p:nvPr/>
        </p:nvSpPr>
        <p:spPr>
          <a:xfrm>
            <a:off x="1619280" y="436572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3"/>
          <p:cNvSpPr/>
          <p:nvPr/>
        </p:nvSpPr>
        <p:spPr>
          <a:xfrm flipH="1">
            <a:off x="2627280" y="436572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5"/>
          <p:cNvSpPr/>
          <p:nvPr/>
        </p:nvSpPr>
        <p:spPr>
          <a:xfrm flipH="1">
            <a:off x="2700360" y="436572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18"/>
          <p:cNvSpPr/>
          <p:nvPr/>
        </p:nvSpPr>
        <p:spPr>
          <a:xfrm rot="7033200">
            <a:off x="3778920" y="3429720"/>
            <a:ext cx="1368360" cy="1224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1227" h="868">
                <a:moveTo>
                  <a:pt x="748" y="67"/>
                </a:moveTo>
                <a:cubicBezTo>
                  <a:pt x="706" y="54"/>
                  <a:pt x="743" y="70"/>
                  <a:pt x="703" y="30"/>
                </a:cubicBezTo>
                <a:cubicBezTo>
                  <a:pt x="692" y="19"/>
                  <a:pt x="664" y="6"/>
                  <a:pt x="651" y="0"/>
                </a:cubicBezTo>
                <a:cubicBezTo>
                  <a:pt x="549" y="11"/>
                  <a:pt x="442" y="30"/>
                  <a:pt x="344" y="60"/>
                </a:cubicBezTo>
                <a:cubicBezTo>
                  <a:pt x="316" y="69"/>
                  <a:pt x="275" y="78"/>
                  <a:pt x="247" y="90"/>
                </a:cubicBezTo>
                <a:cubicBezTo>
                  <a:pt x="226" y="99"/>
                  <a:pt x="187" y="120"/>
                  <a:pt x="187" y="120"/>
                </a:cubicBezTo>
                <a:cubicBezTo>
                  <a:pt x="166" y="151"/>
                  <a:pt x="141" y="147"/>
                  <a:pt x="112" y="172"/>
                </a:cubicBezTo>
                <a:cubicBezTo>
                  <a:pt x="86" y="195"/>
                  <a:pt x="74" y="218"/>
                  <a:pt x="45" y="239"/>
                </a:cubicBezTo>
                <a:cubicBezTo>
                  <a:pt x="35" y="254"/>
                  <a:pt x="25" y="269"/>
                  <a:pt x="15" y="284"/>
                </a:cubicBezTo>
                <a:cubicBezTo>
                  <a:pt x="10" y="292"/>
                  <a:pt x="0" y="307"/>
                  <a:pt x="0" y="307"/>
                </a:cubicBezTo>
                <a:cubicBezTo>
                  <a:pt x="2" y="347"/>
                  <a:pt x="2" y="387"/>
                  <a:pt x="7" y="426"/>
                </a:cubicBezTo>
                <a:cubicBezTo>
                  <a:pt x="16" y="495"/>
                  <a:pt x="61" y="550"/>
                  <a:pt x="97" y="606"/>
                </a:cubicBezTo>
                <a:cubicBezTo>
                  <a:pt x="109" y="624"/>
                  <a:pt x="130" y="633"/>
                  <a:pt x="142" y="651"/>
                </a:cubicBezTo>
                <a:cubicBezTo>
                  <a:pt x="165" y="686"/>
                  <a:pt x="176" y="711"/>
                  <a:pt x="209" y="733"/>
                </a:cubicBezTo>
                <a:cubicBezTo>
                  <a:pt x="291" y="853"/>
                  <a:pt x="419" y="834"/>
                  <a:pt x="546" y="868"/>
                </a:cubicBezTo>
                <a:cubicBezTo>
                  <a:pt x="611" y="863"/>
                  <a:pt x="676" y="861"/>
                  <a:pt x="740" y="853"/>
                </a:cubicBezTo>
                <a:cubicBezTo>
                  <a:pt x="792" y="847"/>
                  <a:pt x="822" y="822"/>
                  <a:pt x="868" y="808"/>
                </a:cubicBezTo>
                <a:cubicBezTo>
                  <a:pt x="917" y="756"/>
                  <a:pt x="978" y="727"/>
                  <a:pt x="1040" y="696"/>
                </a:cubicBezTo>
                <a:cubicBezTo>
                  <a:pt x="1047" y="686"/>
                  <a:pt x="1053" y="675"/>
                  <a:pt x="1062" y="666"/>
                </a:cubicBezTo>
                <a:cubicBezTo>
                  <a:pt x="1068" y="660"/>
                  <a:pt x="1079" y="658"/>
                  <a:pt x="1085" y="651"/>
                </a:cubicBezTo>
                <a:cubicBezTo>
                  <a:pt x="1097" y="638"/>
                  <a:pt x="1101" y="619"/>
                  <a:pt x="1114" y="606"/>
                </a:cubicBezTo>
                <a:cubicBezTo>
                  <a:pt x="1148" y="572"/>
                  <a:pt x="1185" y="527"/>
                  <a:pt x="1212" y="486"/>
                </a:cubicBezTo>
                <a:cubicBezTo>
                  <a:pt x="1214" y="478"/>
                  <a:pt x="1227" y="439"/>
                  <a:pt x="1227" y="434"/>
                </a:cubicBezTo>
                <a:cubicBezTo>
                  <a:pt x="1222" y="361"/>
                  <a:pt x="1172" y="280"/>
                  <a:pt x="1107" y="247"/>
                </a:cubicBezTo>
                <a:cubicBezTo>
                  <a:pt x="1067" y="167"/>
                  <a:pt x="1122" y="262"/>
                  <a:pt x="1062" y="202"/>
                </a:cubicBezTo>
                <a:cubicBezTo>
                  <a:pt x="1054" y="194"/>
                  <a:pt x="1054" y="181"/>
                  <a:pt x="1047" y="172"/>
                </a:cubicBezTo>
                <a:cubicBezTo>
                  <a:pt x="1030" y="152"/>
                  <a:pt x="994" y="141"/>
                  <a:pt x="972" y="127"/>
                </a:cubicBezTo>
                <a:cubicBezTo>
                  <a:pt x="958" y="81"/>
                  <a:pt x="888" y="44"/>
                  <a:pt x="845" y="22"/>
                </a:cubicBezTo>
                <a:cubicBezTo>
                  <a:pt x="789" y="32"/>
                  <a:pt x="730" y="45"/>
                  <a:pt x="673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9"/>
          <p:cNvSpPr/>
          <p:nvPr/>
        </p:nvSpPr>
        <p:spPr>
          <a:xfrm>
            <a:off x="4932360" y="436572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0"/>
          <p:cNvSpPr/>
          <p:nvPr/>
        </p:nvSpPr>
        <p:spPr>
          <a:xfrm>
            <a:off x="4932360" y="44370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1"/>
          <p:cNvSpPr/>
          <p:nvPr/>
        </p:nvSpPr>
        <p:spPr>
          <a:xfrm>
            <a:off x="515016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23">
            <a:hlinkClick r:id="rId1"/>
          </p:cNvPr>
          <p:cNvSpPr/>
          <p:nvPr/>
        </p:nvSpPr>
        <p:spPr>
          <a:xfrm>
            <a:off x="5148360" y="4005360"/>
            <a:ext cx="215640" cy="28872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8720"/>
              <a:gd name="textAreaBottom" fmla="*/ 275040 h 288720"/>
            </a:gdLst>
            <a:ahLst/>
            <a:rect l="textAreaLeft" t="textAreaTop" r="textAreaRight" b="textAreaBottom"/>
            <a:pathLst>
              <a:path w="21600" h="28908">
                <a:moveTo>
                  <a:pt x="0" y="0"/>
                </a:moveTo>
                <a:lnTo>
                  <a:pt x="21600" y="0"/>
                </a:lnTo>
                <a:lnTo>
                  <a:pt x="21600" y="28908"/>
                </a:lnTo>
                <a:lnTo>
                  <a:pt x="0" y="28908"/>
                </a:lnTo>
                <a:close/>
              </a:path>
              <a:path fill="lightenLess" w="21600" h="289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08">
                <a:moveTo>
                  <a:pt x="21600" y="0"/>
                </a:moveTo>
                <a:lnTo>
                  <a:pt x="21600" y="28908"/>
                </a:lnTo>
                <a:lnTo>
                  <a:pt x="20200" y="27508"/>
                </a:lnTo>
                <a:lnTo>
                  <a:pt x="20200" y="1400"/>
                </a:lnTo>
                <a:close/>
              </a:path>
              <a:path fill="darkenLess" w="21600" h="28908">
                <a:moveTo>
                  <a:pt x="21600" y="28908"/>
                </a:moveTo>
                <a:lnTo>
                  <a:pt x="0" y="28908"/>
                </a:lnTo>
                <a:lnTo>
                  <a:pt x="1400" y="27508"/>
                </a:lnTo>
                <a:lnTo>
                  <a:pt x="20200" y="27508"/>
                </a:lnTo>
                <a:close/>
              </a:path>
              <a:path fill="lighten" w="21600" h="28908">
                <a:moveTo>
                  <a:pt x="0" y="289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08"/>
                </a:lnTo>
                <a:close/>
              </a:path>
              <a:path fill="darken" w="21600" h="28908">
                <a:moveTo>
                  <a:pt x="10800" y="1845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8908">
                <a:moveTo>
                  <a:pt x="11905" y="17935"/>
                </a:moveTo>
                <a:lnTo>
                  <a:pt x="11905" y="15977"/>
                </a:lnTo>
                <a:cubicBezTo>
                  <a:pt x="11905" y="15150"/>
                  <a:pt x="12236" y="14454"/>
                  <a:pt x="12837" y="14454"/>
                </a:cubicBezTo>
                <a:cubicBezTo>
                  <a:pt x="13968" y="14454"/>
                  <a:pt x="14865" y="13088"/>
                  <a:pt x="14865" y="11503"/>
                </a:cubicBezTo>
                <a:cubicBezTo>
                  <a:pt x="14865" y="9188"/>
                  <a:pt x="13011" y="7448"/>
                  <a:pt x="10800" y="7448"/>
                </a:cubicBezTo>
                <a:cubicBezTo>
                  <a:pt x="8589" y="7448"/>
                  <a:pt x="6918" y="9188"/>
                  <a:pt x="6918" y="11503"/>
                </a:cubicBezTo>
                <a:lnTo>
                  <a:pt x="8772" y="11503"/>
                </a:lnTo>
                <a:cubicBezTo>
                  <a:pt x="8772" y="10363"/>
                  <a:pt x="9695" y="9475"/>
                  <a:pt x="10800" y="9475"/>
                </a:cubicBezTo>
                <a:cubicBezTo>
                  <a:pt x="11905" y="9475"/>
                  <a:pt x="12837" y="10363"/>
                  <a:pt x="12837" y="11503"/>
                </a:cubicBezTo>
                <a:cubicBezTo>
                  <a:pt x="12837" y="12243"/>
                  <a:pt x="12367" y="12974"/>
                  <a:pt x="11905" y="12974"/>
                </a:cubicBezTo>
                <a:cubicBezTo>
                  <a:pt x="10800" y="12974"/>
                  <a:pt x="9695" y="14454"/>
                  <a:pt x="9695" y="15977"/>
                </a:cubicBezTo>
                <a:lnTo>
                  <a:pt x="9695" y="1793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24"/>
          <p:cNvSpPr/>
          <p:nvPr/>
        </p:nvSpPr>
        <p:spPr>
          <a:xfrm>
            <a:off x="2916360" y="4437000"/>
            <a:ext cx="215640" cy="2160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36">
                <a:moveTo>
                  <a:pt x="0" y="0"/>
                </a:moveTo>
                <a:lnTo>
                  <a:pt x="21600" y="0"/>
                </a:lnTo>
                <a:lnTo>
                  <a:pt x="21600" y="21636"/>
                </a:lnTo>
                <a:lnTo>
                  <a:pt x="0" y="21636"/>
                </a:lnTo>
                <a:close/>
              </a:path>
              <a:path fill="lightenLess" w="21600" h="21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6">
                <a:moveTo>
                  <a:pt x="21600" y="0"/>
                </a:moveTo>
                <a:lnTo>
                  <a:pt x="21600" y="21636"/>
                </a:lnTo>
                <a:lnTo>
                  <a:pt x="20200" y="20236"/>
                </a:lnTo>
                <a:lnTo>
                  <a:pt x="20200" y="1400"/>
                </a:lnTo>
                <a:close/>
              </a:path>
              <a:path fill="darkenLess" w="21600" h="21636">
                <a:moveTo>
                  <a:pt x="21600" y="21636"/>
                </a:moveTo>
                <a:lnTo>
                  <a:pt x="0" y="21636"/>
                </a:lnTo>
                <a:lnTo>
                  <a:pt x="1400" y="20236"/>
                </a:lnTo>
                <a:lnTo>
                  <a:pt x="20200" y="20236"/>
                </a:lnTo>
                <a:close/>
              </a:path>
              <a:path fill="lighten" w="21600" h="21636">
                <a:moveTo>
                  <a:pt x="0" y="21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6"/>
                </a:lnTo>
                <a:close/>
              </a:path>
              <a:path fill="darken" w="21600" h="21636">
                <a:moveTo>
                  <a:pt x="10800" y="14822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36">
                <a:moveTo>
                  <a:pt x="11905" y="14299"/>
                </a:moveTo>
                <a:lnTo>
                  <a:pt x="11905" y="12341"/>
                </a:lnTo>
                <a:cubicBezTo>
                  <a:pt x="11905" y="11514"/>
                  <a:pt x="12236" y="10818"/>
                  <a:pt x="12837" y="10818"/>
                </a:cubicBezTo>
                <a:cubicBezTo>
                  <a:pt x="13968" y="10818"/>
                  <a:pt x="14865" y="9452"/>
                  <a:pt x="14865" y="7867"/>
                </a:cubicBezTo>
                <a:cubicBezTo>
                  <a:pt x="14865" y="5552"/>
                  <a:pt x="13011" y="3812"/>
                  <a:pt x="10800" y="3812"/>
                </a:cubicBezTo>
                <a:cubicBezTo>
                  <a:pt x="8589" y="3812"/>
                  <a:pt x="6918" y="5552"/>
                  <a:pt x="6918" y="7867"/>
                </a:cubicBezTo>
                <a:lnTo>
                  <a:pt x="8772" y="7867"/>
                </a:lnTo>
                <a:cubicBezTo>
                  <a:pt x="8772" y="6727"/>
                  <a:pt x="9695" y="5839"/>
                  <a:pt x="10800" y="5839"/>
                </a:cubicBezTo>
                <a:cubicBezTo>
                  <a:pt x="11905" y="5839"/>
                  <a:pt x="12837" y="6727"/>
                  <a:pt x="12837" y="7867"/>
                </a:cubicBezTo>
                <a:cubicBezTo>
                  <a:pt x="12837" y="8607"/>
                  <a:pt x="12367" y="9338"/>
                  <a:pt x="11905" y="9338"/>
                </a:cubicBezTo>
                <a:cubicBezTo>
                  <a:pt x="10800" y="9338"/>
                  <a:pt x="9695" y="10818"/>
                  <a:pt x="9695" y="12341"/>
                </a:cubicBezTo>
                <a:lnTo>
                  <a:pt x="9695" y="1429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Freeform 17"/>
          <p:cNvSpPr/>
          <p:nvPr/>
        </p:nvSpPr>
        <p:spPr>
          <a:xfrm>
            <a:off x="2050920" y="5950080"/>
            <a:ext cx="433440" cy="215640"/>
          </a:xfrm>
          <a:custGeom>
            <a:avLst/>
            <a:gdLst>
              <a:gd name="textAreaLeft" fmla="*/ 0 w 433440"/>
              <a:gd name="textAreaRight" fmla="*/ 433800 w 43344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326" h="235">
                <a:moveTo>
                  <a:pt x="315" y="40"/>
                </a:moveTo>
                <a:cubicBezTo>
                  <a:pt x="253" y="0"/>
                  <a:pt x="211" y="12"/>
                  <a:pt x="135" y="18"/>
                </a:cubicBezTo>
                <a:cubicBezTo>
                  <a:pt x="109" y="24"/>
                  <a:pt x="85" y="32"/>
                  <a:pt x="60" y="40"/>
                </a:cubicBezTo>
                <a:cubicBezTo>
                  <a:pt x="41" y="69"/>
                  <a:pt x="19" y="71"/>
                  <a:pt x="0" y="100"/>
                </a:cubicBezTo>
                <a:cubicBezTo>
                  <a:pt x="9" y="156"/>
                  <a:pt x="5" y="179"/>
                  <a:pt x="60" y="197"/>
                </a:cubicBezTo>
                <a:cubicBezTo>
                  <a:pt x="87" y="215"/>
                  <a:pt x="76" y="210"/>
                  <a:pt x="105" y="220"/>
                </a:cubicBezTo>
                <a:cubicBezTo>
                  <a:pt x="120" y="225"/>
                  <a:pt x="150" y="235"/>
                  <a:pt x="150" y="235"/>
                </a:cubicBezTo>
                <a:cubicBezTo>
                  <a:pt x="177" y="230"/>
                  <a:pt x="205" y="228"/>
                  <a:pt x="232" y="220"/>
                </a:cubicBezTo>
                <a:cubicBezTo>
                  <a:pt x="262" y="211"/>
                  <a:pt x="267" y="177"/>
                  <a:pt x="292" y="160"/>
                </a:cubicBezTo>
                <a:cubicBezTo>
                  <a:pt x="306" y="107"/>
                  <a:pt x="326" y="97"/>
                  <a:pt x="315" y="4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1"/>
          <p:cNvSpPr/>
          <p:nvPr/>
        </p:nvSpPr>
        <p:spPr>
          <a:xfrm>
            <a:off x="4140360" y="2492280"/>
            <a:ext cx="2160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9"/>
          <p:cNvSpPr/>
          <p:nvPr/>
        </p:nvSpPr>
        <p:spPr>
          <a:xfrm>
            <a:off x="755640" y="2060640"/>
            <a:ext cx="2664000" cy="18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изводная сложной функ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оре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y(x)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жная функция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 е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Возьмем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едполагаем, что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4"/>
              <p:cNvSpPr txBox="1"/>
              <p:nvPr/>
            </p:nvSpPr>
            <p:spPr>
              <a:xfrm>
                <a:off x="1042920" y="2276640"/>
                <a:ext cx="2089080" cy="64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6"/>
              <p:cNvSpPr txBox="1"/>
              <p:nvPr/>
            </p:nvSpPr>
            <p:spPr>
              <a:xfrm>
                <a:off x="1116000" y="2927520"/>
                <a:ext cx="115236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ϕ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8"/>
              <p:cNvSpPr txBox="1"/>
              <p:nvPr/>
            </p:nvSpPr>
            <p:spPr>
              <a:xfrm>
                <a:off x="1063800" y="3213000"/>
                <a:ext cx="209520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∃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в</m:t>
                        </m:r>
                        <m:r>
                          <m:t xml:space="preserve"> </m:t>
                        </m:r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чем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значение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10"/>
              <p:cNvSpPr txBox="1"/>
              <p:nvPr/>
            </p:nvSpPr>
            <p:spPr>
              <a:xfrm>
                <a:off x="4140360" y="2492280"/>
                <a:ext cx="2087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ϕ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8" name="AutoShape 12"/>
          <p:cNvSpPr/>
          <p:nvPr/>
        </p:nvSpPr>
        <p:spPr>
          <a:xfrm>
            <a:off x="3492360" y="2781360"/>
            <a:ext cx="574920" cy="216000"/>
          </a:xfrm>
          <a:prstGeom prst="rightArrow">
            <a:avLst>
              <a:gd name="adj1" fmla="val 50000"/>
              <a:gd name="adj2" fmla="val 665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13"/>
              <p:cNvSpPr txBox="1"/>
              <p:nvPr/>
            </p:nvSpPr>
            <p:spPr>
              <a:xfrm>
                <a:off x="1692360" y="4221000"/>
                <a:ext cx="151128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Δu</m:t>
                    </m:r>
                    <m:r>
                      <m:t xml:space="preserve">⇒</m:t>
                    </m:r>
                    <m:r>
                      <m:t xml:space="preserve">Δ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14"/>
              <p:cNvSpPr txBox="1"/>
              <p:nvPr/>
            </p:nvSpPr>
            <p:spPr>
              <a:xfrm>
                <a:off x="2556000" y="4437000"/>
                <a:ext cx="57600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u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15"/>
              <p:cNvSpPr txBox="1"/>
              <p:nvPr/>
            </p:nvSpPr>
            <p:spPr>
              <a:xfrm>
                <a:off x="1116000" y="4581360"/>
                <a:ext cx="126036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u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Δu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2" name="AutoShape 18"/>
          <p:cNvSpPr/>
          <p:nvPr/>
        </p:nvSpPr>
        <p:spPr>
          <a:xfrm>
            <a:off x="1835280" y="6021360"/>
            <a:ext cx="215640" cy="36036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360360"/>
              <a:gd name="textAreaBottom" fmla="*/ 346680 h 360360"/>
            </a:gdLst>
            <a:ahLst/>
            <a:rect l="textAreaLeft" t="textAreaTop" r="textAreaRight" b="textAreaBottom"/>
            <a:pathLst>
              <a:path w="21600" h="36072">
                <a:moveTo>
                  <a:pt x="0" y="0"/>
                </a:moveTo>
                <a:lnTo>
                  <a:pt x="21600" y="0"/>
                </a:lnTo>
                <a:lnTo>
                  <a:pt x="21600" y="36072"/>
                </a:lnTo>
                <a:lnTo>
                  <a:pt x="0" y="36072"/>
                </a:lnTo>
                <a:close/>
              </a:path>
              <a:path fill="lightenLess" w="21600" h="360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072">
                <a:moveTo>
                  <a:pt x="21600" y="0"/>
                </a:moveTo>
                <a:lnTo>
                  <a:pt x="21600" y="36072"/>
                </a:lnTo>
                <a:lnTo>
                  <a:pt x="20200" y="34672"/>
                </a:lnTo>
                <a:lnTo>
                  <a:pt x="20200" y="1400"/>
                </a:lnTo>
                <a:close/>
              </a:path>
              <a:path fill="darkenLess" w="21600" h="36072">
                <a:moveTo>
                  <a:pt x="21600" y="36072"/>
                </a:moveTo>
                <a:lnTo>
                  <a:pt x="0" y="36072"/>
                </a:lnTo>
                <a:lnTo>
                  <a:pt x="1400" y="34672"/>
                </a:lnTo>
                <a:lnTo>
                  <a:pt x="20200" y="34672"/>
                </a:lnTo>
                <a:close/>
              </a:path>
              <a:path fill="lighten" w="21600" h="36072">
                <a:moveTo>
                  <a:pt x="0" y="360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672"/>
                </a:lnTo>
                <a:close/>
              </a:path>
              <a:path fill="darken" w="21600" h="36072">
                <a:moveTo>
                  <a:pt x="10800" y="22040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6072">
                <a:moveTo>
                  <a:pt x="11905" y="21517"/>
                </a:moveTo>
                <a:lnTo>
                  <a:pt x="11905" y="19559"/>
                </a:lnTo>
                <a:cubicBezTo>
                  <a:pt x="11905" y="18732"/>
                  <a:pt x="12236" y="18036"/>
                  <a:pt x="12837" y="18036"/>
                </a:cubicBezTo>
                <a:cubicBezTo>
                  <a:pt x="13968" y="18036"/>
                  <a:pt x="14865" y="16670"/>
                  <a:pt x="14865" y="15085"/>
                </a:cubicBezTo>
                <a:cubicBezTo>
                  <a:pt x="14865" y="12770"/>
                  <a:pt x="13011" y="11030"/>
                  <a:pt x="10800" y="11030"/>
                </a:cubicBezTo>
                <a:cubicBezTo>
                  <a:pt x="8589" y="11030"/>
                  <a:pt x="6918" y="12770"/>
                  <a:pt x="6918" y="15085"/>
                </a:cubicBezTo>
                <a:lnTo>
                  <a:pt x="8772" y="15085"/>
                </a:lnTo>
                <a:cubicBezTo>
                  <a:pt x="8772" y="13945"/>
                  <a:pt x="9695" y="13057"/>
                  <a:pt x="10800" y="13057"/>
                </a:cubicBezTo>
                <a:cubicBezTo>
                  <a:pt x="11905" y="13057"/>
                  <a:pt x="12837" y="13945"/>
                  <a:pt x="12837" y="15085"/>
                </a:cubicBezTo>
                <a:cubicBezTo>
                  <a:pt x="12837" y="15825"/>
                  <a:pt x="12367" y="16556"/>
                  <a:pt x="11905" y="16556"/>
                </a:cubicBezTo>
                <a:cubicBezTo>
                  <a:pt x="10800" y="16556"/>
                  <a:pt x="9695" y="18036"/>
                  <a:pt x="9695" y="19559"/>
                </a:cubicBezTo>
                <a:lnTo>
                  <a:pt x="9695" y="2151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9"/>
          <p:cNvSpPr/>
          <p:nvPr/>
        </p:nvSpPr>
        <p:spPr>
          <a:xfrm>
            <a:off x="3711240" y="580536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ч.т.д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16"/>
              <p:cNvSpPr txBox="1"/>
              <p:nvPr/>
            </p:nvSpPr>
            <p:spPr>
              <a:xfrm>
                <a:off x="1042920" y="5084640"/>
                <a:ext cx="254808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Δu</m:t>
                            </m:r>
                          </m:den>
                        </m:f>
                        <m:r>
                          <m:t xml:space="preserve">⋅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u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u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Δu</m:t>
                            </m:r>
                          </m:den>
                        </m:f>
                        <m:r>
                          <m:t xml:space="preserve">⋅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u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4:27:14Z</dcterms:created>
  <dc:creator>Asus</dc:creator>
  <dc:description/>
  <dc:language>en-US</dc:language>
  <cp:lastModifiedBy>Пользователь</cp:lastModifiedBy>
  <dcterms:modified xsi:type="dcterms:W3CDTF">2018-07-01T12:30:00Z</dcterms:modified>
  <cp:revision>62</cp:revision>
  <dc:subject/>
  <dc:title>Слайд 1</dc:title>
</cp:coreProperties>
</file>